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10158413" cy="85867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CFB01-7F98-47F8-BCC5-358F9E4395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91440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7960" y="4962960"/>
            <a:ext cx="91440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DA07-7DB4-44C5-B1A5-CA2D2CF4D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7960" y="496296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93720" y="496296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DD10-1D8B-4513-8615-5D29DA96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99640" y="200340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91320" y="200340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7960" y="496296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99640" y="496296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91320" y="4962960"/>
            <a:ext cx="294408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D1EE-F3ED-431C-940D-ED2293747E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7960" y="2003400"/>
            <a:ext cx="9144000" cy="566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3685-1BF5-4DF4-9EA9-272F027C4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91440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B805C-774E-45DB-B0BF-A08F88660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3CC1F-71DB-41F6-A248-20B138927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C396-29A5-436C-9C63-BD99F3827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7960" y="344160"/>
            <a:ext cx="9144000" cy="663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8308-860C-4FA1-B777-FC7D0FE62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7960" y="496296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BCA1-3708-41DA-A3A0-604E00CEE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93720" y="496296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355B0-B112-4FBE-BEEB-E1C293737C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796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93720" y="2003400"/>
            <a:ext cx="44622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7960" y="4962960"/>
            <a:ext cx="9144000" cy="270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317B6-1D28-4E43-9BAB-99A19E874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7960" y="344160"/>
            <a:ext cx="914400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7960" y="2003400"/>
            <a:ext cx="9144000" cy="566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7960" y="7818480"/>
            <a:ext cx="23702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1840" y="7818480"/>
            <a:ext cx="32162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81720" y="7818480"/>
            <a:ext cx="2370240" cy="59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67140-D0A7-4861-A645-EBB0AB8F5FED}" type="slidenum">
              <a:rPr b="0" lang="en-GB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coolmath4kids.com/fractals/fractalgenerators/generator3/index.html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1384200" y="165240"/>
            <a:ext cx="7491600" cy="6605280"/>
            <a:chOff x="1384200" y="165240"/>
            <a:chExt cx="7491600" cy="6605280"/>
          </a:xfrm>
        </p:grpSpPr>
        <p:pic>
          <p:nvPicPr>
            <p:cNvPr id="42" name="" descr=""/>
            <p:cNvPicPr/>
            <p:nvPr/>
          </p:nvPicPr>
          <p:blipFill>
            <a:blip r:embed="rId1"/>
            <a:stretch/>
          </p:blipFill>
          <p:spPr>
            <a:xfrm>
              <a:off x="1384200" y="165240"/>
              <a:ext cx="7491600" cy="607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3" name=""/>
            <p:cNvSpPr/>
            <p:nvPr/>
          </p:nvSpPr>
          <p:spPr>
            <a:xfrm>
              <a:off x="1828800" y="5270400"/>
              <a:ext cx="6516720" cy="1500120"/>
            </a:xfrm>
            <a:custGeom>
              <a:avLst/>
              <a:gdLst/>
              <a:ahLst/>
              <a:rect l="l" t="t" r="r" b="b"/>
              <a:pathLst>
                <a:path w="4105" h="945">
                  <a:moveTo>
                    <a:pt x="0" y="0"/>
                  </a:moveTo>
                  <a:lnTo>
                    <a:pt x="4104" y="0"/>
                  </a:lnTo>
                  <a:lnTo>
                    <a:pt x="4104" y="944"/>
                  </a:lnTo>
                  <a:lnTo>
                    <a:pt x="0" y="94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55800" y="5499000"/>
              <a:ext cx="4749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600" spc="-1" strike="noStrike">
                  <a:solidFill>
                    <a:srgbClr val="000000"/>
                  </a:solidFill>
                  <a:latin typeface="Arial - 36"/>
                </a:rPr>
                <a:t>Year 9 Unit 5 project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975120" y="6019920"/>
              <a:ext cx="22096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500" spc="-1" strike="noStrike">
                  <a:solidFill>
                    <a:srgbClr val="000000"/>
                  </a:solidFill>
                  <a:latin typeface="Arial - 36"/>
                </a:rPr>
                <a:t>Fractals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787320" y="444600"/>
            <a:ext cx="8139240" cy="63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914400" y="139680"/>
            <a:ext cx="8702640" cy="656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8080" y="228600"/>
            <a:ext cx="8436240" cy="636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66760" y="673200"/>
            <a:ext cx="8982000" cy="641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266760" y="673200"/>
            <a:ext cx="9069480" cy="617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-279360" y="-673200"/>
            <a:ext cx="10737720" cy="795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>
            <a:hlinkClick r:id="rId1"/>
          </p:cNvPr>
          <p:cNvSpPr/>
          <p:nvPr/>
        </p:nvSpPr>
        <p:spPr>
          <a:xfrm>
            <a:off x="291960" y="647640"/>
            <a:ext cx="9093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e0"/>
                </a:solidFill>
                <a:latin typeface="Times New Roman - 20"/>
              </a:rPr>
              <a:t>http://www.coolmath4kids.com/fractals/fractalgenerators/generator3/index.htm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308240" y="1663560"/>
            <a:ext cx="7151400" cy="2770200"/>
          </a:xfrm>
          <a:custGeom>
            <a:avLst/>
            <a:gdLst/>
            <a:ahLst/>
            <a:rect l="l" t="t" r="r" b="b"/>
            <a:pathLst>
              <a:path w="4505" h="1745">
                <a:moveTo>
                  <a:pt x="0" y="0"/>
                </a:moveTo>
                <a:lnTo>
                  <a:pt x="4504" y="0"/>
                </a:lnTo>
                <a:lnTo>
                  <a:pt x="4504" y="1744"/>
                </a:lnTo>
                <a:lnTo>
                  <a:pt x="0" y="174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30320" y="2260440"/>
            <a:ext cx="622296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- 36"/>
              </a:rPr>
              <a:t>You can experiment on your computer at home using this site.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- 36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Arial - 36"/>
              </a:rPr>
              <a:t>Connection to the site is also in the attachments to this smartboard.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4480" y="787320"/>
            <a:ext cx="95756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e0"/>
                </a:solidFill>
                <a:latin typeface="Arial - 36"/>
              </a:rPr>
              <a:t>During this project you are going to make your own fractals and investigate them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5245200" y="3505320"/>
            <a:ext cx="5151240" cy="386712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139680" y="2502000"/>
            <a:ext cx="9245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ff00"/>
                </a:solidFill>
                <a:latin typeface="Arial - 36"/>
              </a:rPr>
              <a:t>If you want to create some on your computer at home use the coolmaths website. Bring them in to show us</a:t>
            </a:r>
            <a:r>
              <a:rPr b="0" lang="en-GB" sz="3600" spc="-1" strike="noStrike">
                <a:solidFill>
                  <a:srgbClr val="000000"/>
                </a:solidFill>
                <a:latin typeface="Arial - 36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507960" y="5067360"/>
            <a:ext cx="911880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ffffe0"/>
                </a:solidFill>
                <a:latin typeface="Arial - 36"/>
              </a:rPr>
              <a:t>Also during the project see what more you can find out about fractals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530520" y="2413080"/>
            <a:ext cx="2630520" cy="2465280"/>
          </a:xfrm>
          <a:custGeom>
            <a:avLst/>
            <a:gdLst/>
            <a:ahLst/>
            <a:rect l="l" t="t" r="r" b="b"/>
            <a:pathLst>
              <a:path w="1657" h="1553">
                <a:moveTo>
                  <a:pt x="1656" y="1550"/>
                </a:moveTo>
                <a:lnTo>
                  <a:pt x="0" y="1552"/>
                </a:lnTo>
                <a:lnTo>
                  <a:pt x="829" y="0"/>
                </a:lnTo>
                <a:lnTo>
                  <a:pt x="1656" y="155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8920" y="0"/>
            <a:ext cx="1297080" cy="1258920"/>
          </a:xfrm>
          <a:custGeom>
            <a:avLst/>
            <a:gdLst/>
            <a:ahLst/>
            <a:rect l="l" t="t" r="r" b="b"/>
            <a:pathLst>
              <a:path w="817" h="793">
                <a:moveTo>
                  <a:pt x="816" y="791"/>
                </a:moveTo>
                <a:lnTo>
                  <a:pt x="0" y="792"/>
                </a:lnTo>
                <a:lnTo>
                  <a:pt x="408" y="0"/>
                </a:lnTo>
                <a:lnTo>
                  <a:pt x="816" y="791"/>
                </a:lnTo>
                <a:close/>
              </a:path>
            </a:pathLst>
          </a:custGeom>
          <a:solidFill>
            <a:srgbClr val="00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1384200"/>
            <a:ext cx="712800" cy="687600"/>
          </a:xfrm>
          <a:custGeom>
            <a:avLst/>
            <a:gdLst/>
            <a:ahLst/>
            <a:rect l="l" t="t" r="r" b="b"/>
            <a:pathLst>
              <a:path w="449" h="433">
                <a:moveTo>
                  <a:pt x="448" y="432"/>
                </a:moveTo>
                <a:lnTo>
                  <a:pt x="0" y="432"/>
                </a:lnTo>
                <a:lnTo>
                  <a:pt x="224" y="0"/>
                </a:lnTo>
                <a:lnTo>
                  <a:pt x="448" y="432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270080" y="63360"/>
            <a:ext cx="395280" cy="357480"/>
          </a:xfrm>
          <a:custGeom>
            <a:avLst/>
            <a:gdLst/>
            <a:ahLst/>
            <a:rect l="l" t="t" r="r" b="b"/>
            <a:pathLst>
              <a:path w="249" h="225">
                <a:moveTo>
                  <a:pt x="248" y="224"/>
                </a:moveTo>
                <a:lnTo>
                  <a:pt x="0" y="224"/>
                </a:lnTo>
                <a:lnTo>
                  <a:pt x="124" y="0"/>
                </a:lnTo>
                <a:lnTo>
                  <a:pt x="248" y="224"/>
                </a:lnTo>
                <a:close/>
              </a:path>
            </a:pathLst>
          </a:custGeom>
          <a:solidFill>
            <a:srgbClr val="40e0d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40360" y="1168560"/>
            <a:ext cx="1296720" cy="1258560"/>
          </a:xfrm>
          <a:custGeom>
            <a:avLst/>
            <a:gdLst/>
            <a:ahLst/>
            <a:rect l="l" t="t" r="r" b="b"/>
            <a:pathLst>
              <a:path w="817" h="793">
                <a:moveTo>
                  <a:pt x="816" y="791"/>
                </a:moveTo>
                <a:lnTo>
                  <a:pt x="0" y="792"/>
                </a:lnTo>
                <a:lnTo>
                  <a:pt x="408" y="0"/>
                </a:lnTo>
                <a:lnTo>
                  <a:pt x="816" y="791"/>
                </a:lnTo>
                <a:close/>
              </a:path>
            </a:pathLst>
          </a:custGeom>
          <a:solidFill>
            <a:srgbClr val="00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rot="14533200">
            <a:off x="2349360" y="4508280"/>
            <a:ext cx="1296720" cy="1258920"/>
          </a:xfrm>
          <a:custGeom>
            <a:avLst/>
            <a:gdLst/>
            <a:ahLst/>
            <a:rect l="l" t="t" r="r" b="b"/>
            <a:pathLst>
              <a:path w="817" h="793">
                <a:moveTo>
                  <a:pt x="816" y="791"/>
                </a:moveTo>
                <a:lnTo>
                  <a:pt x="0" y="792"/>
                </a:lnTo>
                <a:lnTo>
                  <a:pt x="408" y="0"/>
                </a:lnTo>
                <a:lnTo>
                  <a:pt x="816" y="791"/>
                </a:lnTo>
                <a:close/>
              </a:path>
            </a:pathLst>
          </a:custGeom>
          <a:solidFill>
            <a:srgbClr val="00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32320" y="533520"/>
            <a:ext cx="712800" cy="687240"/>
          </a:xfrm>
          <a:custGeom>
            <a:avLst/>
            <a:gdLst/>
            <a:ahLst/>
            <a:rect l="l" t="t" r="r" b="b"/>
            <a:pathLst>
              <a:path w="449" h="433">
                <a:moveTo>
                  <a:pt x="448" y="432"/>
                </a:moveTo>
                <a:lnTo>
                  <a:pt x="0" y="432"/>
                </a:lnTo>
                <a:lnTo>
                  <a:pt x="224" y="0"/>
                </a:lnTo>
                <a:lnTo>
                  <a:pt x="448" y="432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4554800">
            <a:off x="3454200" y="2222280"/>
            <a:ext cx="712800" cy="687240"/>
          </a:xfrm>
          <a:custGeom>
            <a:avLst/>
            <a:gdLst/>
            <a:ahLst/>
            <a:rect l="l" t="t" r="r" b="b"/>
            <a:pathLst>
              <a:path w="449" h="433">
                <a:moveTo>
                  <a:pt x="448" y="432"/>
                </a:moveTo>
                <a:lnTo>
                  <a:pt x="0" y="432"/>
                </a:lnTo>
                <a:lnTo>
                  <a:pt x="224" y="0"/>
                </a:lnTo>
                <a:lnTo>
                  <a:pt x="448" y="432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rot="7053000">
            <a:off x="5371560" y="2197080"/>
            <a:ext cx="712800" cy="687240"/>
          </a:xfrm>
          <a:custGeom>
            <a:avLst/>
            <a:gdLst/>
            <a:ahLst/>
            <a:rect l="l" t="t" r="r" b="b"/>
            <a:pathLst>
              <a:path w="449" h="433">
                <a:moveTo>
                  <a:pt x="448" y="432"/>
                </a:moveTo>
                <a:lnTo>
                  <a:pt x="0" y="432"/>
                </a:lnTo>
                <a:lnTo>
                  <a:pt x="224" y="0"/>
                </a:lnTo>
                <a:lnTo>
                  <a:pt x="448" y="432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4482800">
            <a:off x="1803240" y="5232240"/>
            <a:ext cx="712800" cy="687240"/>
          </a:xfrm>
          <a:custGeom>
            <a:avLst/>
            <a:gdLst/>
            <a:ahLst/>
            <a:rect l="l" t="t" r="r" b="b"/>
            <a:pathLst>
              <a:path w="449" h="433">
                <a:moveTo>
                  <a:pt x="448" y="432"/>
                </a:moveTo>
                <a:lnTo>
                  <a:pt x="0" y="432"/>
                </a:lnTo>
                <a:lnTo>
                  <a:pt x="224" y="0"/>
                </a:lnTo>
                <a:lnTo>
                  <a:pt x="448" y="432"/>
                </a:lnTo>
                <a:close/>
              </a:path>
            </a:pathLst>
          </a:custGeom>
          <a:solidFill>
            <a:srgbClr val="ff00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0" y="216000"/>
            <a:ext cx="395280" cy="357120"/>
          </a:xfrm>
          <a:custGeom>
            <a:avLst/>
            <a:gdLst/>
            <a:ahLst/>
            <a:rect l="l" t="t" r="r" b="b"/>
            <a:pathLst>
              <a:path w="249" h="225">
                <a:moveTo>
                  <a:pt x="248" y="224"/>
                </a:moveTo>
                <a:lnTo>
                  <a:pt x="0" y="224"/>
                </a:lnTo>
                <a:lnTo>
                  <a:pt x="124" y="0"/>
                </a:lnTo>
                <a:lnTo>
                  <a:pt x="248" y="224"/>
                </a:lnTo>
                <a:close/>
              </a:path>
            </a:pathLst>
          </a:custGeom>
          <a:solidFill>
            <a:srgbClr val="40e0d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127400" y="1041480"/>
            <a:ext cx="395280" cy="357120"/>
          </a:xfrm>
          <a:custGeom>
            <a:avLst/>
            <a:gdLst/>
            <a:ahLst/>
            <a:rect l="l" t="t" r="r" b="b"/>
            <a:pathLst>
              <a:path w="249" h="225">
                <a:moveTo>
                  <a:pt x="248" y="224"/>
                </a:moveTo>
                <a:lnTo>
                  <a:pt x="0" y="224"/>
                </a:lnTo>
                <a:lnTo>
                  <a:pt x="124" y="0"/>
                </a:lnTo>
                <a:lnTo>
                  <a:pt x="248" y="224"/>
                </a:lnTo>
                <a:close/>
              </a:path>
            </a:pathLst>
          </a:custGeom>
          <a:solidFill>
            <a:srgbClr val="40e0d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67360" y="1015920"/>
            <a:ext cx="395280" cy="357120"/>
          </a:xfrm>
          <a:custGeom>
            <a:avLst/>
            <a:gdLst/>
            <a:ahLst/>
            <a:rect l="l" t="t" r="r" b="b"/>
            <a:pathLst>
              <a:path w="249" h="225">
                <a:moveTo>
                  <a:pt x="248" y="224"/>
                </a:moveTo>
                <a:lnTo>
                  <a:pt x="0" y="224"/>
                </a:lnTo>
                <a:lnTo>
                  <a:pt x="124" y="0"/>
                </a:lnTo>
                <a:lnTo>
                  <a:pt x="248" y="224"/>
                </a:lnTo>
                <a:close/>
              </a:path>
            </a:pathLst>
          </a:custGeom>
          <a:solidFill>
            <a:srgbClr val="40e0d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20960" y="1752480"/>
            <a:ext cx="395280" cy="357480"/>
          </a:xfrm>
          <a:custGeom>
            <a:avLst/>
            <a:gdLst/>
            <a:ahLst/>
            <a:rect l="l" t="t" r="r" b="b"/>
            <a:pathLst>
              <a:path w="249" h="225">
                <a:moveTo>
                  <a:pt x="248" y="224"/>
                </a:moveTo>
                <a:lnTo>
                  <a:pt x="0" y="224"/>
                </a:lnTo>
                <a:lnTo>
                  <a:pt x="124" y="0"/>
                </a:lnTo>
                <a:lnTo>
                  <a:pt x="248" y="224"/>
                </a:lnTo>
                <a:close/>
              </a:path>
            </a:pathLst>
          </a:custGeom>
          <a:solidFill>
            <a:srgbClr val="40e0d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76720" y="2527200"/>
            <a:ext cx="395280" cy="357120"/>
          </a:xfrm>
          <a:custGeom>
            <a:avLst/>
            <a:gdLst/>
            <a:ahLst/>
            <a:rect l="l" t="t" r="r" b="b"/>
            <a:pathLst>
              <a:path w="249" h="225">
                <a:moveTo>
                  <a:pt x="248" y="224"/>
                </a:moveTo>
                <a:lnTo>
                  <a:pt x="0" y="224"/>
                </a:lnTo>
                <a:lnTo>
                  <a:pt x="124" y="0"/>
                </a:lnTo>
                <a:lnTo>
                  <a:pt x="248" y="224"/>
                </a:lnTo>
                <a:close/>
              </a:path>
            </a:pathLst>
          </a:custGeom>
          <a:solidFill>
            <a:srgbClr val="40e0d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140360" y="2502000"/>
            <a:ext cx="395280" cy="357120"/>
          </a:xfrm>
          <a:custGeom>
            <a:avLst/>
            <a:gdLst/>
            <a:ahLst/>
            <a:rect l="l" t="t" r="r" b="b"/>
            <a:pathLst>
              <a:path w="249" h="225">
                <a:moveTo>
                  <a:pt x="248" y="224"/>
                </a:moveTo>
                <a:lnTo>
                  <a:pt x="0" y="224"/>
                </a:lnTo>
                <a:lnTo>
                  <a:pt x="124" y="0"/>
                </a:lnTo>
                <a:lnTo>
                  <a:pt x="248" y="224"/>
                </a:lnTo>
                <a:close/>
              </a:path>
            </a:pathLst>
          </a:custGeom>
          <a:solidFill>
            <a:srgbClr val="40e0d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39680" y="2413080"/>
            <a:ext cx="1498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00"/>
                </a:solidFill>
                <a:latin typeface="Arial - 36"/>
              </a:rPr>
              <a:t>Use these infinite cloners 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00"/>
                </a:solidFill>
                <a:latin typeface="Arial - 36"/>
              </a:rPr>
              <a:t>continue this patter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ff00"/>
                </a:solidFill>
                <a:latin typeface="Arial - 36"/>
              </a:rPr>
              <a:t>What is the rule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1676520" y="101520"/>
            <a:ext cx="2630520" cy="2465640"/>
            <a:chOff x="1676520" y="101520"/>
            <a:chExt cx="2630520" cy="2465640"/>
          </a:xfrm>
        </p:grpSpPr>
        <p:sp>
          <p:nvSpPr>
            <p:cNvPr id="95" name=""/>
            <p:cNvSpPr/>
            <p:nvPr/>
          </p:nvSpPr>
          <p:spPr>
            <a:xfrm>
              <a:off x="1676520" y="101520"/>
              <a:ext cx="2630520" cy="2465640"/>
            </a:xfrm>
            <a:custGeom>
              <a:avLst/>
              <a:gdLst/>
              <a:ahLst/>
              <a:rect l="l" t="t" r="r" b="b"/>
              <a:pathLst>
                <a:path w="1657" h="1553">
                  <a:moveTo>
                    <a:pt x="1656" y="1550"/>
                  </a:moveTo>
                  <a:lnTo>
                    <a:pt x="0" y="1552"/>
                  </a:lnTo>
                  <a:lnTo>
                    <a:pt x="829" y="0"/>
                  </a:lnTo>
                  <a:lnTo>
                    <a:pt x="1656" y="155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95560" y="1701720"/>
              <a:ext cx="2209680" cy="62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500" spc="-1" strike="noStrike">
                  <a:solidFill>
                    <a:srgbClr val="000000"/>
                  </a:solidFill>
                  <a:latin typeface="Arial - 36"/>
                </a:rPr>
                <a:t>shape 1</a:t>
              </a:r>
              <a:endParaRPr b="0" lang="en-US" sz="3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6997680" y="1143000"/>
            <a:ext cx="395280" cy="414000"/>
            <a:chOff x="6997680" y="1143000"/>
            <a:chExt cx="395280" cy="414000"/>
          </a:xfrm>
        </p:grpSpPr>
        <p:sp>
          <p:nvSpPr>
            <p:cNvPr id="98" name=""/>
            <p:cNvSpPr/>
            <p:nvPr/>
          </p:nvSpPr>
          <p:spPr>
            <a:xfrm>
              <a:off x="6997680" y="1143000"/>
              <a:ext cx="395280" cy="357120"/>
            </a:xfrm>
            <a:custGeom>
              <a:avLst/>
              <a:gdLst/>
              <a:ahLst/>
              <a:rect l="l" t="t" r="r" b="b"/>
              <a:pathLst>
                <a:path w="249" h="225">
                  <a:moveTo>
                    <a:pt x="248" y="224"/>
                  </a:moveTo>
                  <a:lnTo>
                    <a:pt x="0" y="224"/>
                  </a:lnTo>
                  <a:lnTo>
                    <a:pt x="124" y="0"/>
                  </a:lnTo>
                  <a:lnTo>
                    <a:pt x="248" y="224"/>
                  </a:lnTo>
                  <a:close/>
                </a:path>
              </a:pathLst>
            </a:custGeom>
            <a:solidFill>
              <a:srgbClr val="40e0d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112160" y="1371600"/>
              <a:ext cx="228600" cy="18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000000"/>
                  </a:solidFill>
                  <a:latin typeface="Arial - 36"/>
                </a:rPr>
                <a:t>4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4280040" y="647640"/>
            <a:ext cx="1296720" cy="1274760"/>
            <a:chOff x="4280040" y="647640"/>
            <a:chExt cx="1296720" cy="1274760"/>
          </a:xfrm>
        </p:grpSpPr>
        <p:sp>
          <p:nvSpPr>
            <p:cNvPr id="101" name=""/>
            <p:cNvSpPr/>
            <p:nvPr/>
          </p:nvSpPr>
          <p:spPr>
            <a:xfrm>
              <a:off x="4280040" y="647640"/>
              <a:ext cx="1296720" cy="1258920"/>
            </a:xfrm>
            <a:custGeom>
              <a:avLst/>
              <a:gdLst/>
              <a:ahLst/>
              <a:rect l="l" t="t" r="r" b="b"/>
              <a:pathLst>
                <a:path w="817" h="793">
                  <a:moveTo>
                    <a:pt x="816" y="791"/>
                  </a:moveTo>
                  <a:lnTo>
                    <a:pt x="0" y="792"/>
                  </a:lnTo>
                  <a:lnTo>
                    <a:pt x="408" y="0"/>
                  </a:lnTo>
                  <a:lnTo>
                    <a:pt x="816" y="791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495680" y="1600200"/>
              <a:ext cx="101628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 - 36"/>
                </a:rPr>
                <a:t>shape 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6045120" y="1003320"/>
            <a:ext cx="712800" cy="810360"/>
            <a:chOff x="6045120" y="1003320"/>
            <a:chExt cx="712800" cy="810360"/>
          </a:xfrm>
        </p:grpSpPr>
        <p:sp>
          <p:nvSpPr>
            <p:cNvPr id="104" name=""/>
            <p:cNvSpPr/>
            <p:nvPr/>
          </p:nvSpPr>
          <p:spPr>
            <a:xfrm>
              <a:off x="6045120" y="1003320"/>
              <a:ext cx="712800" cy="68724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35560" y="1536840"/>
              <a:ext cx="432000" cy="27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600" spc="-1" strike="noStrike">
                  <a:solidFill>
                    <a:srgbClr val="000000"/>
                  </a:solidFill>
                  <a:latin typeface="Arial - 36"/>
                </a:rPr>
                <a:t>shape 3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380880" y="3200400"/>
            <a:ext cx="9348840" cy="3583080"/>
          </a:xfrm>
          <a:custGeom>
            <a:avLst/>
            <a:gdLst/>
            <a:ahLst/>
            <a:rect l="l" t="t" r="r" b="b"/>
            <a:pathLst>
              <a:path w="5889" h="2257">
                <a:moveTo>
                  <a:pt x="0" y="0"/>
                </a:moveTo>
                <a:lnTo>
                  <a:pt x="5888" y="0"/>
                </a:lnTo>
                <a:lnTo>
                  <a:pt x="5888" y="2256"/>
                </a:lnTo>
                <a:lnTo>
                  <a:pt x="0" y="225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33520" y="4000680"/>
            <a:ext cx="9601200" cy="222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 - 36"/>
              </a:rPr>
              <a:t>Shape 1 is a 16cm sided equilateral triangl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 - 36"/>
              </a:rPr>
              <a:t>shape 2 is an 8cm sided equilateral triangl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 - 36"/>
              </a:rPr>
              <a:t>shape 3 is a 4cm sided equilateral triang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500" spc="-1" strike="noStrike">
                <a:solidFill>
                  <a:srgbClr val="000000"/>
                </a:solidFill>
                <a:latin typeface="Arial - 36"/>
              </a:rPr>
              <a:t>shape 4 is a 2cm sided equilateral triangle.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216000" y="495360"/>
            <a:ext cx="9759960" cy="310824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009960" y="3689280"/>
            <a:ext cx="4060800" cy="32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8" name=""/>
          <p:cNvGrpSpPr/>
          <p:nvPr/>
        </p:nvGrpSpPr>
        <p:grpSpPr>
          <a:xfrm>
            <a:off x="1676520" y="101520"/>
            <a:ext cx="2762280" cy="2590920"/>
            <a:chOff x="1676520" y="101520"/>
            <a:chExt cx="2762280" cy="2590920"/>
          </a:xfrm>
        </p:grpSpPr>
        <p:sp>
          <p:nvSpPr>
            <p:cNvPr id="109" name=""/>
            <p:cNvSpPr/>
            <p:nvPr/>
          </p:nvSpPr>
          <p:spPr>
            <a:xfrm>
              <a:off x="1676520" y="101520"/>
              <a:ext cx="2762280" cy="2590920"/>
            </a:xfrm>
            <a:custGeom>
              <a:avLst/>
              <a:gdLst/>
              <a:ahLst/>
              <a:rect l="l" t="t" r="r" b="b"/>
              <a:pathLst>
                <a:path w="1740" h="1632">
                  <a:moveTo>
                    <a:pt x="1739" y="1629"/>
                  </a:moveTo>
                  <a:lnTo>
                    <a:pt x="0" y="1631"/>
                  </a:lnTo>
                  <a:lnTo>
                    <a:pt x="870" y="0"/>
                  </a:lnTo>
                  <a:lnTo>
                    <a:pt x="1739" y="1629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2120760" y="1778040"/>
              <a:ext cx="2311560" cy="65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700" spc="-1" strike="noStrike">
                  <a:solidFill>
                    <a:srgbClr val="000000"/>
                  </a:solidFill>
                  <a:latin typeface="Arial - 36"/>
                </a:rPr>
                <a:t>shape 1</a:t>
              </a:r>
              <a:endParaRPr b="0" lang="en-US" sz="3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1" name=""/>
          <p:cNvGrpSpPr/>
          <p:nvPr/>
        </p:nvGrpSpPr>
        <p:grpSpPr>
          <a:xfrm>
            <a:off x="355680" y="3301920"/>
            <a:ext cx="9753480" cy="3390840"/>
            <a:chOff x="355680" y="3301920"/>
            <a:chExt cx="9753480" cy="3390840"/>
          </a:xfrm>
        </p:grpSpPr>
        <p:sp>
          <p:nvSpPr>
            <p:cNvPr id="112" name=""/>
            <p:cNvSpPr/>
            <p:nvPr/>
          </p:nvSpPr>
          <p:spPr>
            <a:xfrm>
              <a:off x="4140360" y="5423040"/>
              <a:ext cx="5968800" cy="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0880" y="3403440"/>
              <a:ext cx="9653760" cy="3151440"/>
            </a:xfrm>
            <a:custGeom>
              <a:avLst/>
              <a:gdLst/>
              <a:ahLst/>
              <a:rect l="l" t="t" r="r" b="b"/>
              <a:pathLst>
                <a:path w="6081" h="1985">
                  <a:moveTo>
                    <a:pt x="0" y="0"/>
                  </a:moveTo>
                  <a:lnTo>
                    <a:pt x="6080" y="0"/>
                  </a:lnTo>
                  <a:lnTo>
                    <a:pt x="6080" y="1984"/>
                  </a:lnTo>
                  <a:lnTo>
                    <a:pt x="0" y="19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80880" y="4140360"/>
              <a:ext cx="963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80880" y="4800600"/>
              <a:ext cx="96141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93840" y="5423040"/>
              <a:ext cx="9601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355680" y="6058080"/>
              <a:ext cx="9626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356000" y="3454560"/>
              <a:ext cx="0" cy="323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8661240" y="3301920"/>
              <a:ext cx="0" cy="323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201080" y="3454560"/>
              <a:ext cx="0" cy="3238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5715000" y="3403440"/>
              <a:ext cx="0" cy="3238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40560" y="4165560"/>
              <a:ext cx="1461960" cy="636480"/>
            </a:xfrm>
            <a:custGeom>
              <a:avLst/>
              <a:gdLst/>
              <a:ahLst/>
              <a:rect l="l" t="t" r="r" b="b"/>
              <a:pathLst>
                <a:path w="921" h="401">
                  <a:moveTo>
                    <a:pt x="0" y="0"/>
                  </a:moveTo>
                  <a:lnTo>
                    <a:pt x="920" y="0"/>
                  </a:lnTo>
                  <a:lnTo>
                    <a:pt x="920" y="400"/>
                  </a:lnTo>
                  <a:lnTo>
                    <a:pt x="0" y="4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8661240" y="5435640"/>
              <a:ext cx="1414800" cy="611280"/>
            </a:xfrm>
            <a:custGeom>
              <a:avLst/>
              <a:gdLst/>
              <a:ahLst/>
              <a:rect l="l" t="t" r="r" b="b"/>
              <a:pathLst>
                <a:path w="891" h="385">
                  <a:moveTo>
                    <a:pt x="0" y="0"/>
                  </a:moveTo>
                  <a:lnTo>
                    <a:pt x="890" y="0"/>
                  </a:lnTo>
                  <a:lnTo>
                    <a:pt x="890" y="384"/>
                  </a:lnTo>
                  <a:lnTo>
                    <a:pt x="0" y="38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623440" y="4800600"/>
              <a:ext cx="1461960" cy="636480"/>
            </a:xfrm>
            <a:custGeom>
              <a:avLst/>
              <a:gdLst/>
              <a:ahLst/>
              <a:rect l="l" t="t" r="r" b="b"/>
              <a:pathLst>
                <a:path w="921" h="401">
                  <a:moveTo>
                    <a:pt x="0" y="0"/>
                  </a:moveTo>
                  <a:lnTo>
                    <a:pt x="920" y="0"/>
                  </a:lnTo>
                  <a:lnTo>
                    <a:pt x="920" y="400"/>
                  </a:lnTo>
                  <a:lnTo>
                    <a:pt x="0" y="4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8623440" y="4178160"/>
              <a:ext cx="1461960" cy="636840"/>
            </a:xfrm>
            <a:custGeom>
              <a:avLst/>
              <a:gdLst/>
              <a:ahLst/>
              <a:rect l="l" t="t" r="r" b="b"/>
              <a:pathLst>
                <a:path w="921" h="401">
                  <a:moveTo>
                    <a:pt x="0" y="0"/>
                  </a:moveTo>
                  <a:lnTo>
                    <a:pt x="920" y="0"/>
                  </a:lnTo>
                  <a:lnTo>
                    <a:pt x="920" y="400"/>
                  </a:lnTo>
                  <a:lnTo>
                    <a:pt x="0" y="4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213680" y="4165560"/>
              <a:ext cx="1461960" cy="636480"/>
            </a:xfrm>
            <a:custGeom>
              <a:avLst/>
              <a:gdLst/>
              <a:ahLst/>
              <a:rect l="l" t="t" r="r" b="b"/>
              <a:pathLst>
                <a:path w="921" h="401">
                  <a:moveTo>
                    <a:pt x="0" y="0"/>
                  </a:moveTo>
                  <a:lnTo>
                    <a:pt x="920" y="0"/>
                  </a:lnTo>
                  <a:lnTo>
                    <a:pt x="920" y="400"/>
                  </a:lnTo>
                  <a:lnTo>
                    <a:pt x="0" y="4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213680" y="4800600"/>
              <a:ext cx="1461960" cy="636480"/>
            </a:xfrm>
            <a:custGeom>
              <a:avLst/>
              <a:gdLst/>
              <a:ahLst/>
              <a:rect l="l" t="t" r="r" b="b"/>
              <a:pathLst>
                <a:path w="921" h="401">
                  <a:moveTo>
                    <a:pt x="0" y="0"/>
                  </a:moveTo>
                  <a:lnTo>
                    <a:pt x="920" y="0"/>
                  </a:lnTo>
                  <a:lnTo>
                    <a:pt x="920" y="400"/>
                  </a:lnTo>
                  <a:lnTo>
                    <a:pt x="0" y="4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356000" y="356868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- 24"/>
              </a:rPr>
              <a:t>shap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648640" y="349236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- 24"/>
              </a:rPr>
              <a:t>shap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77040" y="3517920"/>
            <a:ext cx="152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- 24"/>
              </a:rPr>
              <a:t>shape 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791320" y="353052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- 24"/>
              </a:rPr>
              <a:t>shap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60240" y="4114800"/>
            <a:ext cx="271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- 24"/>
              </a:rPr>
              <a:t>How many times do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 - 24"/>
              </a:rPr>
              <a:t> </a:t>
            </a:r>
            <a:r>
              <a:rPr b="0" lang="en-GB" sz="1800" spc="-1" strike="noStrike">
                <a:solidFill>
                  <a:srgbClr val="000000"/>
                </a:solidFill>
                <a:latin typeface="Arial - 24"/>
              </a:rPr>
              <a:t>shape 1 fit in...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47640" y="6045120"/>
            <a:ext cx="251460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 - 24"/>
              </a:rPr>
              <a:t>How many times do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 - 24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 - 24"/>
              </a:rPr>
              <a:t>shape 4 fit in...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0240" y="5511960"/>
            <a:ext cx="25401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 - 24"/>
              </a:rPr>
              <a:t>How many times do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 - 24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 - 24"/>
              </a:rPr>
              <a:t>shape 3 fit in...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47640" y="4813200"/>
            <a:ext cx="2565360" cy="61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 - 24"/>
              </a:rPr>
              <a:t>How many times doe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000000"/>
                </a:solidFill>
                <a:latin typeface="Arial - 24"/>
              </a:rPr>
              <a:t> </a:t>
            </a:r>
            <a:r>
              <a:rPr b="0" lang="en-GB" sz="1700" spc="-1" strike="noStrike">
                <a:solidFill>
                  <a:srgbClr val="000000"/>
                </a:solidFill>
                <a:latin typeface="Arial - 24"/>
              </a:rPr>
              <a:t>shape 2 fit in...?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067360" y="228600"/>
            <a:ext cx="24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ff00"/>
                </a:solidFill>
                <a:latin typeface="Arial - 24"/>
              </a:rPr>
              <a:t>Infinite clon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762440" y="420372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- 24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38760" y="49150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- 24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146640" y="48261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- 24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645320" y="551196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- 24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194760" y="609588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- 24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159600" y="5423040"/>
            <a:ext cx="60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- 24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734240" y="6134040"/>
            <a:ext cx="6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- 24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737240" y="5575320"/>
            <a:ext cx="76176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 - 24"/>
              </a:rPr>
              <a:t>1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210360" y="6108840"/>
            <a:ext cx="762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 - 24"/>
              </a:rPr>
              <a:t>16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775040" y="6146640"/>
            <a:ext cx="7621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 - 24"/>
              </a:rPr>
              <a:t>64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5451480" y="714240"/>
            <a:ext cx="579600" cy="674640"/>
            <a:chOff x="5451480" y="714240"/>
            <a:chExt cx="579600" cy="674640"/>
          </a:xfrm>
        </p:grpSpPr>
        <p:sp>
          <p:nvSpPr>
            <p:cNvPr id="148" name=""/>
            <p:cNvSpPr/>
            <p:nvPr/>
          </p:nvSpPr>
          <p:spPr>
            <a:xfrm>
              <a:off x="5451480" y="714240"/>
              <a:ext cx="579600" cy="557280"/>
            </a:xfrm>
            <a:custGeom>
              <a:avLst/>
              <a:gdLst/>
              <a:ahLst/>
              <a:rect l="l" t="t" r="r" b="b"/>
              <a:pathLst>
                <a:path w="365" h="351">
                  <a:moveTo>
                    <a:pt x="364" y="349"/>
                  </a:moveTo>
                  <a:lnTo>
                    <a:pt x="0" y="350"/>
                  </a:lnTo>
                  <a:lnTo>
                    <a:pt x="182" y="0"/>
                  </a:lnTo>
                  <a:lnTo>
                    <a:pt x="364" y="349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587920" y="1143000"/>
              <a:ext cx="381240" cy="24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00" spc="-1" strike="noStrike">
                  <a:solidFill>
                    <a:srgbClr val="000000"/>
                  </a:solidFill>
                  <a:latin typeface="Arial - 36"/>
                </a:rPr>
                <a:t>shape 3</a:t>
              </a:r>
              <a:endParaRPr b="0" lang="en-US" sz="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297480" y="1012680"/>
            <a:ext cx="192240" cy="244440"/>
            <a:chOff x="6297480" y="1012680"/>
            <a:chExt cx="192240" cy="244440"/>
          </a:xfrm>
        </p:grpSpPr>
        <p:sp>
          <p:nvSpPr>
            <p:cNvPr id="151" name=""/>
            <p:cNvSpPr/>
            <p:nvPr/>
          </p:nvSpPr>
          <p:spPr>
            <a:xfrm>
              <a:off x="6297480" y="1012680"/>
              <a:ext cx="185760" cy="160560"/>
            </a:xfrm>
            <a:custGeom>
              <a:avLst/>
              <a:gdLst/>
              <a:ahLst/>
              <a:rect l="l" t="t" r="r" b="b"/>
              <a:pathLst>
                <a:path w="117" h="101">
                  <a:moveTo>
                    <a:pt x="116" y="100"/>
                  </a:moveTo>
                  <a:lnTo>
                    <a:pt x="0" y="100"/>
                  </a:lnTo>
                  <a:lnTo>
                    <a:pt x="58" y="0"/>
                  </a:lnTo>
                  <a:lnTo>
                    <a:pt x="116" y="100"/>
                  </a:lnTo>
                  <a:close/>
                </a:path>
              </a:pathLst>
            </a:custGeom>
            <a:solidFill>
              <a:srgbClr val="40e0d0"/>
            </a:solidFill>
            <a:ln w="38160">
              <a:solidFill>
                <a:srgbClr val="40e0d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311880" y="1117440"/>
              <a:ext cx="17784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300" spc="-1" strike="noStrike">
                  <a:solidFill>
                    <a:srgbClr val="40e0d0"/>
                  </a:solidFill>
                  <a:latin typeface="Arial - 36"/>
                </a:rPr>
                <a:t>4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3" name=""/>
          <p:cNvGrpSpPr/>
          <p:nvPr/>
        </p:nvGrpSpPr>
        <p:grpSpPr>
          <a:xfrm>
            <a:off x="4165560" y="380880"/>
            <a:ext cx="1297080" cy="1274760"/>
            <a:chOff x="4165560" y="380880"/>
            <a:chExt cx="1297080" cy="1274760"/>
          </a:xfrm>
        </p:grpSpPr>
        <p:sp>
          <p:nvSpPr>
            <p:cNvPr id="154" name=""/>
            <p:cNvSpPr/>
            <p:nvPr/>
          </p:nvSpPr>
          <p:spPr>
            <a:xfrm>
              <a:off x="4165560" y="380880"/>
              <a:ext cx="1297080" cy="1258920"/>
            </a:xfrm>
            <a:custGeom>
              <a:avLst/>
              <a:gdLst/>
              <a:ahLst/>
              <a:rect l="l" t="t" r="r" b="b"/>
              <a:pathLst>
                <a:path w="817" h="793">
                  <a:moveTo>
                    <a:pt x="816" y="791"/>
                  </a:moveTo>
                  <a:lnTo>
                    <a:pt x="0" y="792"/>
                  </a:lnTo>
                  <a:lnTo>
                    <a:pt x="408" y="0"/>
                  </a:lnTo>
                  <a:lnTo>
                    <a:pt x="816" y="791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4381560" y="1333440"/>
              <a:ext cx="1015920" cy="322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500" spc="-1" strike="noStrike">
                  <a:solidFill>
                    <a:srgbClr val="000000"/>
                  </a:solidFill>
                  <a:latin typeface="Arial - 36"/>
                </a:rPr>
                <a:t>shape 2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825480" y="1847880"/>
            <a:ext cx="2630520" cy="2465280"/>
          </a:xfrm>
          <a:custGeom>
            <a:avLst/>
            <a:gdLst/>
            <a:ahLst/>
            <a:rect l="l" t="t" r="r" b="b"/>
            <a:pathLst>
              <a:path w="1657" h="1553">
                <a:moveTo>
                  <a:pt x="1656" y="1550"/>
                </a:moveTo>
                <a:lnTo>
                  <a:pt x="0" y="1552"/>
                </a:lnTo>
                <a:lnTo>
                  <a:pt x="829" y="0"/>
                </a:lnTo>
                <a:lnTo>
                  <a:pt x="1656" y="155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317840" y="1104840"/>
            <a:ext cx="4559400" cy="3841920"/>
          </a:xfrm>
          <a:custGeom>
            <a:avLst/>
            <a:gdLst/>
            <a:ahLst/>
            <a:rect l="l" t="t" r="r" b="b"/>
            <a:pathLst>
              <a:path w="2872" h="2420">
                <a:moveTo>
                  <a:pt x="0" y="0"/>
                </a:moveTo>
                <a:lnTo>
                  <a:pt x="2871" y="0"/>
                </a:lnTo>
                <a:lnTo>
                  <a:pt x="2871" y="2419"/>
                </a:lnTo>
                <a:lnTo>
                  <a:pt x="0" y="241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16600" y="1346040"/>
            <a:ext cx="3301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 - 36"/>
              </a:rPr>
              <a:t>shape 1 perimeter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473800" y="198108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- 36"/>
              </a:rPr>
              <a:t>3x16=48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305240" y="3162240"/>
            <a:ext cx="4826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- 36"/>
              </a:rPr>
              <a:t>perimeter of extended fracta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- 36"/>
              </a:rPr>
              <a:t> </a:t>
            </a:r>
            <a:r>
              <a:rPr b="0" lang="en-GB" sz="2600" spc="-1" strike="noStrike">
                <a:solidFill>
                  <a:srgbClr val="000000"/>
                </a:solidFill>
                <a:latin typeface="Arial - 36"/>
              </a:rPr>
              <a:t>48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1" name=""/>
          <p:cNvGrpSpPr/>
          <p:nvPr/>
        </p:nvGrpSpPr>
        <p:grpSpPr>
          <a:xfrm>
            <a:off x="246240" y="1270080"/>
            <a:ext cx="4581360" cy="4378320"/>
            <a:chOff x="246240" y="1270080"/>
            <a:chExt cx="4581360" cy="4378320"/>
          </a:xfrm>
        </p:grpSpPr>
        <p:sp>
          <p:nvSpPr>
            <p:cNvPr id="162" name=""/>
            <p:cNvSpPr/>
            <p:nvPr/>
          </p:nvSpPr>
          <p:spPr>
            <a:xfrm>
              <a:off x="1206360" y="2514600"/>
              <a:ext cx="2630520" cy="2465280"/>
            </a:xfrm>
            <a:custGeom>
              <a:avLst/>
              <a:gdLst/>
              <a:ahLst/>
              <a:rect l="l" t="t" r="r" b="b"/>
              <a:pathLst>
                <a:path w="1657" h="1553">
                  <a:moveTo>
                    <a:pt x="1656" y="1550"/>
                  </a:moveTo>
                  <a:lnTo>
                    <a:pt x="0" y="1552"/>
                  </a:lnTo>
                  <a:lnTo>
                    <a:pt x="829" y="0"/>
                  </a:lnTo>
                  <a:lnTo>
                    <a:pt x="1656" y="155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816200" y="1270080"/>
              <a:ext cx="1296720" cy="1258920"/>
            </a:xfrm>
            <a:custGeom>
              <a:avLst/>
              <a:gdLst/>
              <a:ahLst/>
              <a:rect l="l" t="t" r="r" b="b"/>
              <a:pathLst>
                <a:path w="817" h="793">
                  <a:moveTo>
                    <a:pt x="816" y="791"/>
                  </a:moveTo>
                  <a:lnTo>
                    <a:pt x="0" y="792"/>
                  </a:lnTo>
                  <a:lnTo>
                    <a:pt x="408" y="0"/>
                  </a:lnTo>
                  <a:lnTo>
                    <a:pt x="816" y="791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246240" y="4361040"/>
              <a:ext cx="1323720" cy="1287360"/>
            </a:xfrm>
            <a:custGeom>
              <a:avLst/>
              <a:gdLst/>
              <a:ahLst/>
              <a:rect l="l" t="t" r="r" b="b"/>
              <a:pathLst>
                <a:path w="834" h="811">
                  <a:moveTo>
                    <a:pt x="833" y="809"/>
                  </a:moveTo>
                  <a:lnTo>
                    <a:pt x="0" y="810"/>
                  </a:lnTo>
                  <a:lnTo>
                    <a:pt x="417" y="0"/>
                  </a:lnTo>
                  <a:lnTo>
                    <a:pt x="833" y="809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30520" y="4280040"/>
              <a:ext cx="1297080" cy="1258920"/>
            </a:xfrm>
            <a:custGeom>
              <a:avLst/>
              <a:gdLst/>
              <a:ahLst/>
              <a:rect l="l" t="t" r="r" b="b"/>
              <a:pathLst>
                <a:path w="817" h="793">
                  <a:moveTo>
                    <a:pt x="816" y="791"/>
                  </a:moveTo>
                  <a:lnTo>
                    <a:pt x="0" y="792"/>
                  </a:lnTo>
                  <a:lnTo>
                    <a:pt x="408" y="0"/>
                  </a:lnTo>
                  <a:lnTo>
                    <a:pt x="816" y="791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5029200" y="914400"/>
            <a:ext cx="4327560" cy="3425760"/>
          </a:xfrm>
          <a:custGeom>
            <a:avLst/>
            <a:gdLst/>
            <a:ahLst/>
            <a:rect l="l" t="t" r="r" b="b"/>
            <a:pathLst>
              <a:path w="2726" h="2158">
                <a:moveTo>
                  <a:pt x="0" y="0"/>
                </a:moveTo>
                <a:lnTo>
                  <a:pt x="2725" y="0"/>
                </a:lnTo>
                <a:lnTo>
                  <a:pt x="2725" y="2157"/>
                </a:lnTo>
                <a:lnTo>
                  <a:pt x="0" y="215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067360" y="1193760"/>
            <a:ext cx="2997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 - 36"/>
              </a:rPr>
              <a:t>Perimeter of shape 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067360" y="1650960"/>
            <a:ext cx="187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- 36"/>
              </a:rPr>
              <a:t>3x8=24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041800" y="2590920"/>
            <a:ext cx="38862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000000"/>
                </a:solidFill>
                <a:latin typeface="Arial - 22"/>
              </a:rPr>
              <a:t>Perimeter of extended fracta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79960" y="3378240"/>
            <a:ext cx="375912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Arial - 26"/>
              </a:rPr>
              <a:t>24+24+24+48 =120cm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1" name=""/>
          <p:cNvGrpSpPr/>
          <p:nvPr/>
        </p:nvGrpSpPr>
        <p:grpSpPr>
          <a:xfrm>
            <a:off x="10800" y="736560"/>
            <a:ext cx="5756760" cy="5497200"/>
            <a:chOff x="10800" y="736560"/>
            <a:chExt cx="5756760" cy="5497200"/>
          </a:xfrm>
        </p:grpSpPr>
        <p:sp>
          <p:nvSpPr>
            <p:cNvPr id="172" name=""/>
            <p:cNvSpPr/>
            <p:nvPr/>
          </p:nvSpPr>
          <p:spPr>
            <a:xfrm>
              <a:off x="1650960" y="2616120"/>
              <a:ext cx="2630520" cy="2465640"/>
            </a:xfrm>
            <a:custGeom>
              <a:avLst/>
              <a:gdLst/>
              <a:ahLst/>
              <a:rect l="l" t="t" r="r" b="b"/>
              <a:pathLst>
                <a:path w="1657" h="1553">
                  <a:moveTo>
                    <a:pt x="1656" y="1550"/>
                  </a:moveTo>
                  <a:lnTo>
                    <a:pt x="0" y="1552"/>
                  </a:lnTo>
                  <a:lnTo>
                    <a:pt x="829" y="0"/>
                  </a:lnTo>
                  <a:lnTo>
                    <a:pt x="1656" y="155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260440" y="1371600"/>
              <a:ext cx="1297080" cy="1258920"/>
            </a:xfrm>
            <a:custGeom>
              <a:avLst/>
              <a:gdLst/>
              <a:ahLst/>
              <a:rect l="l" t="t" r="r" b="b"/>
              <a:pathLst>
                <a:path w="817" h="793">
                  <a:moveTo>
                    <a:pt x="816" y="791"/>
                  </a:moveTo>
                  <a:lnTo>
                    <a:pt x="0" y="792"/>
                  </a:lnTo>
                  <a:lnTo>
                    <a:pt x="408" y="0"/>
                  </a:lnTo>
                  <a:lnTo>
                    <a:pt x="816" y="791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4533200">
              <a:off x="435600" y="4704480"/>
              <a:ext cx="1323720" cy="1287360"/>
            </a:xfrm>
            <a:custGeom>
              <a:avLst/>
              <a:gdLst/>
              <a:ahLst/>
              <a:rect l="l" t="t" r="r" b="b"/>
              <a:pathLst>
                <a:path w="834" h="811">
                  <a:moveTo>
                    <a:pt x="833" y="809"/>
                  </a:moveTo>
                  <a:lnTo>
                    <a:pt x="0" y="810"/>
                  </a:lnTo>
                  <a:lnTo>
                    <a:pt x="417" y="0"/>
                  </a:lnTo>
                  <a:lnTo>
                    <a:pt x="833" y="809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552760" y="736560"/>
              <a:ext cx="712800" cy="68760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21472800">
              <a:off x="1676160" y="2273040"/>
              <a:ext cx="712800" cy="68724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429000" y="2222640"/>
              <a:ext cx="712800" cy="68724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21450600">
              <a:off x="25200" y="5295960"/>
              <a:ext cx="712800" cy="68724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965160" y="3822840"/>
              <a:ext cx="712800" cy="68724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790640" y="5308560"/>
              <a:ext cx="712800" cy="68760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975120" y="4381560"/>
              <a:ext cx="1297080" cy="1258920"/>
            </a:xfrm>
            <a:custGeom>
              <a:avLst/>
              <a:gdLst/>
              <a:ahLst/>
              <a:rect l="l" t="t" r="r" b="b"/>
              <a:pathLst>
                <a:path w="817" h="793">
                  <a:moveTo>
                    <a:pt x="816" y="791"/>
                  </a:moveTo>
                  <a:lnTo>
                    <a:pt x="0" y="792"/>
                  </a:lnTo>
                  <a:lnTo>
                    <a:pt x="408" y="0"/>
                  </a:lnTo>
                  <a:lnTo>
                    <a:pt x="816" y="791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280040" y="3733920"/>
              <a:ext cx="712800" cy="68724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54760" y="5334120"/>
              <a:ext cx="712800" cy="68724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467160" y="5346720"/>
              <a:ext cx="712800" cy="68724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"/>
          <p:cNvSpPr/>
          <p:nvPr/>
        </p:nvSpPr>
        <p:spPr>
          <a:xfrm>
            <a:off x="6045120" y="1092240"/>
            <a:ext cx="3862440" cy="4599000"/>
          </a:xfrm>
          <a:custGeom>
            <a:avLst/>
            <a:gdLst/>
            <a:ahLst/>
            <a:rect l="l" t="t" r="r" b="b"/>
            <a:pathLst>
              <a:path w="2433" h="2897">
                <a:moveTo>
                  <a:pt x="0" y="0"/>
                </a:moveTo>
                <a:lnTo>
                  <a:pt x="2432" y="0"/>
                </a:lnTo>
                <a:lnTo>
                  <a:pt x="2432" y="2896"/>
                </a:lnTo>
                <a:lnTo>
                  <a:pt x="0" y="2896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6566040" y="1320840"/>
            <a:ext cx="31496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 - 20"/>
              </a:rPr>
              <a:t>perimeter of shape 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 - 20"/>
              </a:rPr>
              <a:t>3x4= 12cm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134040" y="3365640"/>
            <a:ext cx="37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 - 20"/>
              </a:rPr>
              <a:t>perimeter of extended fract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070680" y="3898800"/>
            <a:ext cx="383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- 20"/>
              </a:rPr>
              <a:t>48 + 3x24+9x12= 228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9" name=""/>
          <p:cNvGrpSpPr/>
          <p:nvPr/>
        </p:nvGrpSpPr>
        <p:grpSpPr>
          <a:xfrm>
            <a:off x="-12600" y="838080"/>
            <a:ext cx="6288120" cy="5827680"/>
            <a:chOff x="-12600" y="838080"/>
            <a:chExt cx="6288120" cy="5827680"/>
          </a:xfrm>
        </p:grpSpPr>
        <p:grpSp>
          <p:nvGrpSpPr>
            <p:cNvPr id="190" name=""/>
            <p:cNvGrpSpPr/>
            <p:nvPr/>
          </p:nvGrpSpPr>
          <p:grpSpPr>
            <a:xfrm>
              <a:off x="-12600" y="1168560"/>
              <a:ext cx="6288120" cy="5497200"/>
              <a:chOff x="-12600" y="1168560"/>
              <a:chExt cx="6288120" cy="5497200"/>
            </a:xfrm>
          </p:grpSpPr>
          <p:sp>
            <p:nvSpPr>
              <p:cNvPr id="191" name=""/>
              <p:cNvSpPr/>
              <p:nvPr/>
            </p:nvSpPr>
            <p:spPr>
              <a:xfrm>
                <a:off x="1866960" y="3048120"/>
                <a:ext cx="2630520" cy="2465280"/>
              </a:xfrm>
              <a:custGeom>
                <a:avLst/>
                <a:gdLst/>
                <a:ahLst/>
                <a:rect l="l" t="t" r="r" b="b"/>
                <a:pathLst>
                  <a:path w="1657" h="1553">
                    <a:moveTo>
                      <a:pt x="1656" y="1550"/>
                    </a:moveTo>
                    <a:lnTo>
                      <a:pt x="0" y="1552"/>
                    </a:lnTo>
                    <a:lnTo>
                      <a:pt x="829" y="0"/>
                    </a:lnTo>
                    <a:lnTo>
                      <a:pt x="1656" y="1550"/>
                    </a:lnTo>
                    <a:close/>
                  </a:path>
                </a:pathLst>
              </a:custGeom>
              <a:solidFill>
                <a:srgbClr val="ffff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2476440" y="1803240"/>
                <a:ext cx="1297080" cy="1258920"/>
              </a:xfrm>
              <a:custGeom>
                <a:avLst/>
                <a:gdLst/>
                <a:ahLst/>
                <a:rect l="l" t="t" r="r" b="b"/>
                <a:pathLst>
                  <a:path w="817" h="793">
                    <a:moveTo>
                      <a:pt x="816" y="791"/>
                    </a:moveTo>
                    <a:lnTo>
                      <a:pt x="0" y="792"/>
                    </a:lnTo>
                    <a:lnTo>
                      <a:pt x="408" y="0"/>
                    </a:lnTo>
                    <a:lnTo>
                      <a:pt x="816" y="791"/>
                    </a:lnTo>
                    <a:close/>
                  </a:path>
                </a:pathLst>
              </a:custGeom>
              <a:solidFill>
                <a:srgbClr val="00ff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 rot="14533200">
                <a:off x="651240" y="5136120"/>
                <a:ext cx="1324080" cy="1287360"/>
              </a:xfrm>
              <a:custGeom>
                <a:avLst/>
                <a:gdLst/>
                <a:ahLst/>
                <a:rect l="l" t="t" r="r" b="b"/>
                <a:pathLst>
                  <a:path w="834" h="811">
                    <a:moveTo>
                      <a:pt x="833" y="809"/>
                    </a:moveTo>
                    <a:lnTo>
                      <a:pt x="0" y="810"/>
                    </a:lnTo>
                    <a:lnTo>
                      <a:pt x="417" y="0"/>
                    </a:lnTo>
                    <a:lnTo>
                      <a:pt x="833" y="809"/>
                    </a:lnTo>
                    <a:close/>
                  </a:path>
                </a:pathLst>
              </a:custGeom>
              <a:solidFill>
                <a:srgbClr val="00ff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2768760" y="1168560"/>
                <a:ext cx="712800" cy="68724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21472800">
                <a:off x="1891800" y="2704680"/>
                <a:ext cx="712800" cy="68760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3645000" y="2654280"/>
                <a:ext cx="712800" cy="68724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21450600">
                <a:off x="240840" y="5727600"/>
                <a:ext cx="712800" cy="68760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2463840" y="16765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3403440" y="16509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2057400" y="23875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1663560" y="321300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2502000" y="318780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3809880" y="23367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4241880" y="313704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3403440" y="3124080"/>
                <a:ext cx="395280" cy="35748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393840" y="5410080"/>
                <a:ext cx="395280" cy="35748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-12600" y="62485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863640" y="61977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1181160" y="4254480"/>
                <a:ext cx="712800" cy="68724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2006640" y="5740560"/>
                <a:ext cx="712800" cy="68724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2590920" y="6235560"/>
                <a:ext cx="395280" cy="35748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1727280" y="62103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2146320" y="55119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1333440" y="39369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952560" y="474984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1765440" y="468648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4191120" y="4813200"/>
                <a:ext cx="1296720" cy="1258920"/>
              </a:xfrm>
              <a:custGeom>
                <a:avLst/>
                <a:gdLst/>
                <a:ahLst/>
                <a:rect l="l" t="t" r="r" b="b"/>
                <a:pathLst>
                  <a:path w="817" h="793">
                    <a:moveTo>
                      <a:pt x="816" y="791"/>
                    </a:moveTo>
                    <a:lnTo>
                      <a:pt x="0" y="792"/>
                    </a:lnTo>
                    <a:lnTo>
                      <a:pt x="408" y="0"/>
                    </a:lnTo>
                    <a:lnTo>
                      <a:pt x="816" y="791"/>
                    </a:lnTo>
                    <a:close/>
                  </a:path>
                </a:pathLst>
              </a:custGeom>
              <a:solidFill>
                <a:srgbClr val="00ff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4495680" y="4165560"/>
                <a:ext cx="712800" cy="68760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5270400" y="5765760"/>
                <a:ext cx="712800" cy="68760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3683160" y="5778360"/>
                <a:ext cx="712800" cy="68760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4622760" y="383544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5105520" y="46483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4203720" y="4635360"/>
                <a:ext cx="395280" cy="35748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848040" y="55119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3403440" y="628668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4267080" y="62611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5029200" y="62611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5397480" y="549900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5880240" y="62229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30" name=""/>
            <p:cNvSpPr/>
            <p:nvPr/>
          </p:nvSpPr>
          <p:spPr>
            <a:xfrm>
              <a:off x="2908440" y="838080"/>
              <a:ext cx="395280" cy="357480"/>
            </a:xfrm>
            <a:custGeom>
              <a:avLst/>
              <a:gdLst/>
              <a:ahLst/>
              <a:rect l="l" t="t" r="r" b="b"/>
              <a:pathLst>
                <a:path w="249" h="225">
                  <a:moveTo>
                    <a:pt x="248" y="224"/>
                  </a:moveTo>
                  <a:lnTo>
                    <a:pt x="0" y="224"/>
                  </a:lnTo>
                  <a:lnTo>
                    <a:pt x="124" y="0"/>
                  </a:lnTo>
                  <a:lnTo>
                    <a:pt x="248" y="224"/>
                  </a:lnTo>
                  <a:close/>
                </a:path>
              </a:pathLst>
            </a:custGeom>
            <a:solidFill>
              <a:srgbClr val="40e0d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1" name=""/>
          <p:cNvSpPr/>
          <p:nvPr/>
        </p:nvSpPr>
        <p:spPr>
          <a:xfrm>
            <a:off x="4800600" y="152280"/>
            <a:ext cx="4819680" cy="3554640"/>
          </a:xfrm>
          <a:custGeom>
            <a:avLst/>
            <a:gdLst/>
            <a:ahLst/>
            <a:rect l="l" t="t" r="r" b="b"/>
            <a:pathLst>
              <a:path w="3036" h="2239">
                <a:moveTo>
                  <a:pt x="0" y="0"/>
                </a:moveTo>
                <a:lnTo>
                  <a:pt x="3035" y="0"/>
                </a:lnTo>
                <a:lnTo>
                  <a:pt x="3035" y="2238"/>
                </a:lnTo>
                <a:lnTo>
                  <a:pt x="0" y="223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952880" y="571680"/>
            <a:ext cx="327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- 22"/>
              </a:rPr>
              <a:t>perimeter of shape 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 - 22"/>
              </a:rPr>
              <a:t>3x2=6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851360" y="2095560"/>
            <a:ext cx="500400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- 22"/>
              </a:rPr>
              <a:t>perimeter of extended fracta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- 22"/>
              </a:rPr>
              <a:t>48+ 3x24 +9x12 + 27x6 =390cm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825480" y="1847880"/>
            <a:ext cx="2630520" cy="2465280"/>
          </a:xfrm>
          <a:custGeom>
            <a:avLst/>
            <a:gdLst/>
            <a:ahLst/>
            <a:rect l="l" t="t" r="r" b="b"/>
            <a:pathLst>
              <a:path w="1657" h="1553">
                <a:moveTo>
                  <a:pt x="1656" y="1550"/>
                </a:moveTo>
                <a:lnTo>
                  <a:pt x="0" y="1552"/>
                </a:lnTo>
                <a:lnTo>
                  <a:pt x="829" y="0"/>
                </a:lnTo>
                <a:lnTo>
                  <a:pt x="1656" y="1550"/>
                </a:lnTo>
                <a:close/>
              </a:path>
            </a:pathLst>
          </a:custGeom>
          <a:solidFill>
            <a:srgbClr val="ffff00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317840" y="1104840"/>
            <a:ext cx="4559400" cy="3841920"/>
          </a:xfrm>
          <a:custGeom>
            <a:avLst/>
            <a:gdLst/>
            <a:ahLst/>
            <a:rect l="l" t="t" r="r" b="b"/>
            <a:pathLst>
              <a:path w="2872" h="2420">
                <a:moveTo>
                  <a:pt x="0" y="0"/>
                </a:moveTo>
                <a:lnTo>
                  <a:pt x="2871" y="0"/>
                </a:lnTo>
                <a:lnTo>
                  <a:pt x="2871" y="2419"/>
                </a:lnTo>
                <a:lnTo>
                  <a:pt x="0" y="241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08640" y="1295280"/>
            <a:ext cx="5765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 - 36"/>
              </a:rPr>
              <a:t>area of shape 1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 - 36"/>
              </a:rPr>
              <a:t>256 triangles you can find this by drawing a 16cm triangle on iscometric paper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737240" y="3835440"/>
            <a:ext cx="4241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- 36"/>
              </a:rPr>
              <a:t>area of extended frac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- 36"/>
              </a:rPr>
              <a:t>256 triang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 rot="10800000">
            <a:off x="4518000" y="774360"/>
            <a:ext cx="5872320" cy="5106960"/>
          </a:xfrm>
          <a:custGeom>
            <a:avLst/>
            <a:gdLst/>
            <a:ahLst/>
            <a:rect l="l" t="t" r="r" b="b"/>
            <a:pathLst>
              <a:path w="3699" h="3217">
                <a:moveTo>
                  <a:pt x="3698" y="3213"/>
                </a:moveTo>
                <a:lnTo>
                  <a:pt x="0" y="3216"/>
                </a:lnTo>
                <a:lnTo>
                  <a:pt x="1850" y="0"/>
                </a:lnTo>
                <a:lnTo>
                  <a:pt x="3698" y="3213"/>
                </a:lnTo>
                <a:close/>
              </a:path>
            </a:pathLst>
          </a:custGeom>
          <a:solidFill>
            <a:srgbClr val="00ff00"/>
          </a:solidFill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rot="10800000">
            <a:off x="-1387800" y="748800"/>
            <a:ext cx="5871960" cy="5106960"/>
          </a:xfrm>
          <a:custGeom>
            <a:avLst/>
            <a:gdLst/>
            <a:ahLst/>
            <a:rect l="l" t="t" r="r" b="b"/>
            <a:pathLst>
              <a:path w="3699" h="3217">
                <a:moveTo>
                  <a:pt x="3698" y="3213"/>
                </a:moveTo>
                <a:lnTo>
                  <a:pt x="0" y="3216"/>
                </a:lnTo>
                <a:lnTo>
                  <a:pt x="1850" y="0"/>
                </a:lnTo>
                <a:lnTo>
                  <a:pt x="3698" y="3213"/>
                </a:lnTo>
                <a:close/>
              </a:path>
            </a:pathLst>
          </a:custGeom>
          <a:solidFill>
            <a:srgbClr val="00ff00"/>
          </a:solidFill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5560" y="5829480"/>
            <a:ext cx="10136160" cy="1550880"/>
          </a:xfrm>
          <a:custGeom>
            <a:avLst/>
            <a:gdLst/>
            <a:ahLst/>
            <a:rect l="l" t="t" r="r" b="b"/>
            <a:pathLst>
              <a:path w="6385" h="977">
                <a:moveTo>
                  <a:pt x="0" y="0"/>
                </a:moveTo>
                <a:lnTo>
                  <a:pt x="6384" y="0"/>
                </a:lnTo>
                <a:lnTo>
                  <a:pt x="6384" y="976"/>
                </a:lnTo>
                <a:lnTo>
                  <a:pt x="0" y="976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-50760" y="3137040"/>
            <a:ext cx="1550880" cy="2681280"/>
          </a:xfrm>
          <a:custGeom>
            <a:avLst/>
            <a:gdLst/>
            <a:ahLst/>
            <a:rect l="l" t="t" r="r" b="b"/>
            <a:pathLst>
              <a:path w="977" h="1689">
                <a:moveTo>
                  <a:pt x="0" y="0"/>
                </a:moveTo>
                <a:lnTo>
                  <a:pt x="976" y="1688"/>
                </a:lnTo>
                <a:lnTo>
                  <a:pt x="0" y="1688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>
            <a:off x="7428960" y="1143000"/>
            <a:ext cx="2801880" cy="4722840"/>
          </a:xfrm>
          <a:custGeom>
            <a:avLst/>
            <a:gdLst/>
            <a:ahLst/>
            <a:rect l="l" t="t" r="r" b="b"/>
            <a:pathLst>
              <a:path w="1765" h="2975">
                <a:moveTo>
                  <a:pt x="0" y="0"/>
                </a:moveTo>
                <a:lnTo>
                  <a:pt x="1764" y="2974"/>
                </a:lnTo>
                <a:lnTo>
                  <a:pt x="0" y="2974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5560" y="12600"/>
            <a:ext cx="10164600" cy="738360"/>
          </a:xfrm>
          <a:custGeom>
            <a:avLst/>
            <a:gdLst/>
            <a:ahLst/>
            <a:rect l="l" t="t" r="r" b="b"/>
            <a:pathLst>
              <a:path w="6403" h="465">
                <a:moveTo>
                  <a:pt x="0" y="0"/>
                </a:moveTo>
                <a:lnTo>
                  <a:pt x="6402" y="0"/>
                </a:lnTo>
                <a:lnTo>
                  <a:pt x="6402" y="464"/>
                </a:lnTo>
                <a:lnTo>
                  <a:pt x="0" y="464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3816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4" name=""/>
          <p:cNvGrpSpPr/>
          <p:nvPr/>
        </p:nvGrpSpPr>
        <p:grpSpPr>
          <a:xfrm>
            <a:off x="1549440" y="698040"/>
            <a:ext cx="5943600" cy="5169240"/>
            <a:chOff x="1549440" y="698040"/>
            <a:chExt cx="5943600" cy="5169240"/>
          </a:xfrm>
        </p:grpSpPr>
        <p:sp>
          <p:nvSpPr>
            <p:cNvPr id="245" name=""/>
            <p:cNvSpPr/>
            <p:nvPr/>
          </p:nvSpPr>
          <p:spPr>
            <a:xfrm>
              <a:off x="1587600" y="5854680"/>
              <a:ext cx="5905440" cy="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 flipV="1">
              <a:off x="1549440" y="698040"/>
              <a:ext cx="2984400" cy="513108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4533840" y="736560"/>
              <a:ext cx="2959200" cy="5130720"/>
            </a:xfrm>
            <a:prstGeom prst="line">
              <a:avLst/>
            </a:prstGeom>
            <a:ln w="38160">
              <a:solidFill>
                <a:srgbClr val="000000">
                  <a:alpha val="84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6832440" y="266760"/>
            <a:ext cx="292104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- 36"/>
              </a:rPr>
              <a:t>You can find out how many unit triangles in the larger shapes by using isometric pape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 - 36"/>
              </a:rPr>
              <a:t>Can you find a quicker way than counting the triangles to calculate the number of triangle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9" name=""/>
          <p:cNvGrpSpPr/>
          <p:nvPr/>
        </p:nvGrpSpPr>
        <p:grpSpPr>
          <a:xfrm>
            <a:off x="246240" y="1270080"/>
            <a:ext cx="4581360" cy="4378320"/>
            <a:chOff x="246240" y="1270080"/>
            <a:chExt cx="4581360" cy="4378320"/>
          </a:xfrm>
        </p:grpSpPr>
        <p:sp>
          <p:nvSpPr>
            <p:cNvPr id="250" name=""/>
            <p:cNvSpPr/>
            <p:nvPr/>
          </p:nvSpPr>
          <p:spPr>
            <a:xfrm>
              <a:off x="1206360" y="2514600"/>
              <a:ext cx="2630520" cy="2465280"/>
            </a:xfrm>
            <a:custGeom>
              <a:avLst/>
              <a:gdLst/>
              <a:ahLst/>
              <a:rect l="l" t="t" r="r" b="b"/>
              <a:pathLst>
                <a:path w="1657" h="1553">
                  <a:moveTo>
                    <a:pt x="1656" y="1550"/>
                  </a:moveTo>
                  <a:lnTo>
                    <a:pt x="0" y="1552"/>
                  </a:lnTo>
                  <a:lnTo>
                    <a:pt x="829" y="0"/>
                  </a:lnTo>
                  <a:lnTo>
                    <a:pt x="1656" y="155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816200" y="1270080"/>
              <a:ext cx="1296720" cy="1258920"/>
            </a:xfrm>
            <a:custGeom>
              <a:avLst/>
              <a:gdLst/>
              <a:ahLst/>
              <a:rect l="l" t="t" r="r" b="b"/>
              <a:pathLst>
                <a:path w="817" h="793">
                  <a:moveTo>
                    <a:pt x="816" y="791"/>
                  </a:moveTo>
                  <a:lnTo>
                    <a:pt x="0" y="792"/>
                  </a:lnTo>
                  <a:lnTo>
                    <a:pt x="408" y="0"/>
                  </a:lnTo>
                  <a:lnTo>
                    <a:pt x="816" y="791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46240" y="4361040"/>
              <a:ext cx="1323720" cy="1287360"/>
            </a:xfrm>
            <a:custGeom>
              <a:avLst/>
              <a:gdLst/>
              <a:ahLst/>
              <a:rect l="l" t="t" r="r" b="b"/>
              <a:pathLst>
                <a:path w="834" h="811">
                  <a:moveTo>
                    <a:pt x="833" y="809"/>
                  </a:moveTo>
                  <a:lnTo>
                    <a:pt x="0" y="810"/>
                  </a:lnTo>
                  <a:lnTo>
                    <a:pt x="417" y="0"/>
                  </a:lnTo>
                  <a:lnTo>
                    <a:pt x="833" y="809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530520" y="4280040"/>
              <a:ext cx="1297080" cy="1258920"/>
            </a:xfrm>
            <a:custGeom>
              <a:avLst/>
              <a:gdLst/>
              <a:ahLst/>
              <a:rect l="l" t="t" r="r" b="b"/>
              <a:pathLst>
                <a:path w="817" h="793">
                  <a:moveTo>
                    <a:pt x="816" y="791"/>
                  </a:moveTo>
                  <a:lnTo>
                    <a:pt x="0" y="792"/>
                  </a:lnTo>
                  <a:lnTo>
                    <a:pt x="408" y="0"/>
                  </a:lnTo>
                  <a:lnTo>
                    <a:pt x="816" y="791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4" name=""/>
          <p:cNvSpPr/>
          <p:nvPr/>
        </p:nvSpPr>
        <p:spPr>
          <a:xfrm>
            <a:off x="5029200" y="914400"/>
            <a:ext cx="4327560" cy="3425760"/>
          </a:xfrm>
          <a:custGeom>
            <a:avLst/>
            <a:gdLst/>
            <a:ahLst/>
            <a:rect l="l" t="t" r="r" b="b"/>
            <a:pathLst>
              <a:path w="2726" h="2158">
                <a:moveTo>
                  <a:pt x="0" y="0"/>
                </a:moveTo>
                <a:lnTo>
                  <a:pt x="2725" y="0"/>
                </a:lnTo>
                <a:lnTo>
                  <a:pt x="2725" y="2157"/>
                </a:lnTo>
                <a:lnTo>
                  <a:pt x="0" y="2157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067360" y="1193760"/>
            <a:ext cx="2286000" cy="4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 - 36"/>
              </a:rPr>
              <a:t>area of shape 2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5041800" y="2590920"/>
            <a:ext cx="3276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 - 22"/>
              </a:rPr>
              <a:t>Area of extended fract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5079960" y="3378240"/>
            <a:ext cx="4165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 - 26"/>
              </a:rPr>
              <a:t>256 + 64x3 =448 triangl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232240" y="1663560"/>
            <a:ext cx="22608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 - 36"/>
              </a:rPr>
              <a:t>64 triang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"/>
          <p:cNvGrpSpPr/>
          <p:nvPr/>
        </p:nvGrpSpPr>
        <p:grpSpPr>
          <a:xfrm>
            <a:off x="10800" y="736560"/>
            <a:ext cx="5756760" cy="5497200"/>
            <a:chOff x="10800" y="736560"/>
            <a:chExt cx="5756760" cy="5497200"/>
          </a:xfrm>
        </p:grpSpPr>
        <p:sp>
          <p:nvSpPr>
            <p:cNvPr id="260" name=""/>
            <p:cNvSpPr/>
            <p:nvPr/>
          </p:nvSpPr>
          <p:spPr>
            <a:xfrm>
              <a:off x="1650960" y="2616120"/>
              <a:ext cx="2630520" cy="2465640"/>
            </a:xfrm>
            <a:custGeom>
              <a:avLst/>
              <a:gdLst/>
              <a:ahLst/>
              <a:rect l="l" t="t" r="r" b="b"/>
              <a:pathLst>
                <a:path w="1657" h="1553">
                  <a:moveTo>
                    <a:pt x="1656" y="1550"/>
                  </a:moveTo>
                  <a:lnTo>
                    <a:pt x="0" y="1552"/>
                  </a:lnTo>
                  <a:lnTo>
                    <a:pt x="829" y="0"/>
                  </a:lnTo>
                  <a:lnTo>
                    <a:pt x="1656" y="1550"/>
                  </a:lnTo>
                  <a:close/>
                </a:path>
              </a:pathLst>
            </a:custGeom>
            <a:solidFill>
              <a:srgbClr val="ff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260440" y="1371600"/>
              <a:ext cx="1297080" cy="1258920"/>
            </a:xfrm>
            <a:custGeom>
              <a:avLst/>
              <a:gdLst/>
              <a:ahLst/>
              <a:rect l="l" t="t" r="r" b="b"/>
              <a:pathLst>
                <a:path w="817" h="793">
                  <a:moveTo>
                    <a:pt x="816" y="791"/>
                  </a:moveTo>
                  <a:lnTo>
                    <a:pt x="0" y="792"/>
                  </a:lnTo>
                  <a:lnTo>
                    <a:pt x="408" y="0"/>
                  </a:lnTo>
                  <a:lnTo>
                    <a:pt x="816" y="791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 rot="14533200">
              <a:off x="435600" y="4704480"/>
              <a:ext cx="1323720" cy="1287360"/>
            </a:xfrm>
            <a:custGeom>
              <a:avLst/>
              <a:gdLst/>
              <a:ahLst/>
              <a:rect l="l" t="t" r="r" b="b"/>
              <a:pathLst>
                <a:path w="834" h="811">
                  <a:moveTo>
                    <a:pt x="833" y="809"/>
                  </a:moveTo>
                  <a:lnTo>
                    <a:pt x="0" y="810"/>
                  </a:lnTo>
                  <a:lnTo>
                    <a:pt x="417" y="0"/>
                  </a:lnTo>
                  <a:lnTo>
                    <a:pt x="833" y="809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2552760" y="736560"/>
              <a:ext cx="712800" cy="68760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 rot="21472800">
              <a:off x="1676160" y="2273040"/>
              <a:ext cx="712800" cy="68724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3429000" y="2222640"/>
              <a:ext cx="712800" cy="68724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 rot="21450600">
              <a:off x="25200" y="5295960"/>
              <a:ext cx="712800" cy="68724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65160" y="3822840"/>
              <a:ext cx="712800" cy="68724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790640" y="5308560"/>
              <a:ext cx="712800" cy="68760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975120" y="4381560"/>
              <a:ext cx="1297080" cy="1258920"/>
            </a:xfrm>
            <a:custGeom>
              <a:avLst/>
              <a:gdLst/>
              <a:ahLst/>
              <a:rect l="l" t="t" r="r" b="b"/>
              <a:pathLst>
                <a:path w="817" h="793">
                  <a:moveTo>
                    <a:pt x="816" y="791"/>
                  </a:moveTo>
                  <a:lnTo>
                    <a:pt x="0" y="792"/>
                  </a:lnTo>
                  <a:lnTo>
                    <a:pt x="408" y="0"/>
                  </a:lnTo>
                  <a:lnTo>
                    <a:pt x="816" y="791"/>
                  </a:lnTo>
                  <a:close/>
                </a:path>
              </a:pathLst>
            </a:custGeom>
            <a:solidFill>
              <a:srgbClr val="00ff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280040" y="3733920"/>
              <a:ext cx="712800" cy="68724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54760" y="5334120"/>
              <a:ext cx="712800" cy="68724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3467160" y="5346720"/>
              <a:ext cx="712800" cy="687240"/>
            </a:xfrm>
            <a:custGeom>
              <a:avLst/>
              <a:gdLst/>
              <a:ahLst/>
              <a:rect l="l" t="t" r="r" b="b"/>
              <a:pathLst>
                <a:path w="449" h="433">
                  <a:moveTo>
                    <a:pt x="448" y="432"/>
                  </a:moveTo>
                  <a:lnTo>
                    <a:pt x="0" y="432"/>
                  </a:lnTo>
                  <a:lnTo>
                    <a:pt x="224" y="0"/>
                  </a:lnTo>
                  <a:lnTo>
                    <a:pt x="448" y="432"/>
                  </a:lnTo>
                  <a:close/>
                </a:path>
              </a:pathLst>
            </a:custGeom>
            <a:solidFill>
              <a:srgbClr val="ff000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4876920" y="774720"/>
            <a:ext cx="5153040" cy="3146400"/>
          </a:xfrm>
          <a:custGeom>
            <a:avLst/>
            <a:gdLst/>
            <a:ahLst/>
            <a:rect l="l" t="t" r="r" b="b"/>
            <a:pathLst>
              <a:path w="3246" h="1982">
                <a:moveTo>
                  <a:pt x="0" y="0"/>
                </a:moveTo>
                <a:lnTo>
                  <a:pt x="3245" y="0"/>
                </a:lnTo>
                <a:lnTo>
                  <a:pt x="3245" y="1981"/>
                </a:lnTo>
                <a:lnTo>
                  <a:pt x="0" y="1981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448240" y="1270080"/>
            <a:ext cx="2463840" cy="114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- 20"/>
              </a:rPr>
              <a:t>area of shape 3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 - 20"/>
              </a:rPr>
              <a:t>16 triangle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10080" y="2489040"/>
            <a:ext cx="3124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 - 20"/>
              </a:rPr>
              <a:t>area of extended fractal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5194440" y="2908440"/>
            <a:ext cx="507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- 20"/>
              </a:rPr>
              <a:t>256 + 3x64 + 9x16=592 triang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"/>
          <p:cNvGrpSpPr/>
          <p:nvPr/>
        </p:nvGrpSpPr>
        <p:grpSpPr>
          <a:xfrm>
            <a:off x="-12600" y="838080"/>
            <a:ext cx="6288120" cy="5827680"/>
            <a:chOff x="-12600" y="838080"/>
            <a:chExt cx="6288120" cy="5827680"/>
          </a:xfrm>
        </p:grpSpPr>
        <p:grpSp>
          <p:nvGrpSpPr>
            <p:cNvPr id="278" name=""/>
            <p:cNvGrpSpPr/>
            <p:nvPr/>
          </p:nvGrpSpPr>
          <p:grpSpPr>
            <a:xfrm>
              <a:off x="-12600" y="1168560"/>
              <a:ext cx="6288120" cy="5497200"/>
              <a:chOff x="-12600" y="1168560"/>
              <a:chExt cx="6288120" cy="5497200"/>
            </a:xfrm>
          </p:grpSpPr>
          <p:sp>
            <p:nvSpPr>
              <p:cNvPr id="279" name=""/>
              <p:cNvSpPr/>
              <p:nvPr/>
            </p:nvSpPr>
            <p:spPr>
              <a:xfrm>
                <a:off x="1866960" y="3048120"/>
                <a:ext cx="2630520" cy="2465280"/>
              </a:xfrm>
              <a:custGeom>
                <a:avLst/>
                <a:gdLst/>
                <a:ahLst/>
                <a:rect l="l" t="t" r="r" b="b"/>
                <a:pathLst>
                  <a:path w="1657" h="1553">
                    <a:moveTo>
                      <a:pt x="1656" y="1550"/>
                    </a:moveTo>
                    <a:lnTo>
                      <a:pt x="0" y="1552"/>
                    </a:lnTo>
                    <a:lnTo>
                      <a:pt x="829" y="0"/>
                    </a:lnTo>
                    <a:lnTo>
                      <a:pt x="1656" y="1550"/>
                    </a:lnTo>
                    <a:close/>
                  </a:path>
                </a:pathLst>
              </a:custGeom>
              <a:solidFill>
                <a:srgbClr val="ffff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"/>
              <p:cNvSpPr/>
              <p:nvPr/>
            </p:nvSpPr>
            <p:spPr>
              <a:xfrm>
                <a:off x="2476440" y="1803240"/>
                <a:ext cx="1297080" cy="1258920"/>
              </a:xfrm>
              <a:custGeom>
                <a:avLst/>
                <a:gdLst/>
                <a:ahLst/>
                <a:rect l="l" t="t" r="r" b="b"/>
                <a:pathLst>
                  <a:path w="817" h="793">
                    <a:moveTo>
                      <a:pt x="816" y="791"/>
                    </a:moveTo>
                    <a:lnTo>
                      <a:pt x="0" y="792"/>
                    </a:lnTo>
                    <a:lnTo>
                      <a:pt x="408" y="0"/>
                    </a:lnTo>
                    <a:lnTo>
                      <a:pt x="816" y="791"/>
                    </a:lnTo>
                    <a:close/>
                  </a:path>
                </a:pathLst>
              </a:custGeom>
              <a:solidFill>
                <a:srgbClr val="00ff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 rot="14533200">
                <a:off x="651240" y="5136120"/>
                <a:ext cx="1324080" cy="1287360"/>
              </a:xfrm>
              <a:custGeom>
                <a:avLst/>
                <a:gdLst/>
                <a:ahLst/>
                <a:rect l="l" t="t" r="r" b="b"/>
                <a:pathLst>
                  <a:path w="834" h="811">
                    <a:moveTo>
                      <a:pt x="833" y="809"/>
                    </a:moveTo>
                    <a:lnTo>
                      <a:pt x="0" y="810"/>
                    </a:lnTo>
                    <a:lnTo>
                      <a:pt x="417" y="0"/>
                    </a:lnTo>
                    <a:lnTo>
                      <a:pt x="833" y="809"/>
                    </a:lnTo>
                    <a:close/>
                  </a:path>
                </a:pathLst>
              </a:custGeom>
              <a:solidFill>
                <a:srgbClr val="00ff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2768760" y="1168560"/>
                <a:ext cx="712800" cy="68724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21472800">
                <a:off x="1891800" y="2704680"/>
                <a:ext cx="712800" cy="68760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3645000" y="2654280"/>
                <a:ext cx="712800" cy="68724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 rot="21450600">
                <a:off x="240840" y="5727600"/>
                <a:ext cx="712800" cy="68760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2463840" y="16765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3403440" y="16509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057400" y="23875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1663560" y="321300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2502000" y="318780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"/>
              <p:cNvSpPr/>
              <p:nvPr/>
            </p:nvSpPr>
            <p:spPr>
              <a:xfrm>
                <a:off x="3809880" y="23367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4241880" y="313704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3403440" y="3124080"/>
                <a:ext cx="395280" cy="35748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"/>
              <p:cNvSpPr/>
              <p:nvPr/>
            </p:nvSpPr>
            <p:spPr>
              <a:xfrm>
                <a:off x="393840" y="5410080"/>
                <a:ext cx="395280" cy="35748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-12600" y="62485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863640" y="61977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1181160" y="4254480"/>
                <a:ext cx="712800" cy="68724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06640" y="5740560"/>
                <a:ext cx="712800" cy="68724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590920" y="6235560"/>
                <a:ext cx="395280" cy="35748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1727280" y="62103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146320" y="55119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"/>
              <p:cNvSpPr/>
              <p:nvPr/>
            </p:nvSpPr>
            <p:spPr>
              <a:xfrm>
                <a:off x="1333440" y="39369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952560" y="474984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1765440" y="468648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4191120" y="4813200"/>
                <a:ext cx="1296720" cy="1258920"/>
              </a:xfrm>
              <a:custGeom>
                <a:avLst/>
                <a:gdLst/>
                <a:ahLst/>
                <a:rect l="l" t="t" r="r" b="b"/>
                <a:pathLst>
                  <a:path w="817" h="793">
                    <a:moveTo>
                      <a:pt x="816" y="791"/>
                    </a:moveTo>
                    <a:lnTo>
                      <a:pt x="0" y="792"/>
                    </a:lnTo>
                    <a:lnTo>
                      <a:pt x="408" y="0"/>
                    </a:lnTo>
                    <a:lnTo>
                      <a:pt x="816" y="791"/>
                    </a:lnTo>
                    <a:close/>
                  </a:path>
                </a:pathLst>
              </a:custGeom>
              <a:solidFill>
                <a:srgbClr val="00ff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4495680" y="4165560"/>
                <a:ext cx="712800" cy="68760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5270400" y="5765760"/>
                <a:ext cx="712800" cy="68760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3683160" y="5778360"/>
                <a:ext cx="712800" cy="68760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4622760" y="383544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105520" y="46483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4203720" y="4635360"/>
                <a:ext cx="395280" cy="35748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3848040" y="55119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403440" y="628668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4267080" y="62611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5029200" y="62611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397480" y="549900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5880240" y="62229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8" name=""/>
            <p:cNvSpPr/>
            <p:nvPr/>
          </p:nvSpPr>
          <p:spPr>
            <a:xfrm>
              <a:off x="2908440" y="838080"/>
              <a:ext cx="395280" cy="357480"/>
            </a:xfrm>
            <a:custGeom>
              <a:avLst/>
              <a:gdLst/>
              <a:ahLst/>
              <a:rect l="l" t="t" r="r" b="b"/>
              <a:pathLst>
                <a:path w="249" h="225">
                  <a:moveTo>
                    <a:pt x="248" y="224"/>
                  </a:moveTo>
                  <a:lnTo>
                    <a:pt x="0" y="224"/>
                  </a:lnTo>
                  <a:lnTo>
                    <a:pt x="124" y="0"/>
                  </a:lnTo>
                  <a:lnTo>
                    <a:pt x="248" y="224"/>
                  </a:lnTo>
                  <a:close/>
                </a:path>
              </a:pathLst>
            </a:custGeom>
            <a:solidFill>
              <a:srgbClr val="40e0d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9" name=""/>
          <p:cNvSpPr/>
          <p:nvPr/>
        </p:nvSpPr>
        <p:spPr>
          <a:xfrm>
            <a:off x="4800600" y="152280"/>
            <a:ext cx="4819680" cy="3554640"/>
          </a:xfrm>
          <a:custGeom>
            <a:avLst/>
            <a:gdLst/>
            <a:ahLst/>
            <a:rect l="l" t="t" r="r" b="b"/>
            <a:pathLst>
              <a:path w="3036" h="2239">
                <a:moveTo>
                  <a:pt x="0" y="0"/>
                </a:moveTo>
                <a:lnTo>
                  <a:pt x="3035" y="0"/>
                </a:lnTo>
                <a:lnTo>
                  <a:pt x="3035" y="2238"/>
                </a:lnTo>
                <a:lnTo>
                  <a:pt x="0" y="223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4952880" y="571680"/>
            <a:ext cx="261648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- 22"/>
              </a:rPr>
              <a:t>area of shape 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 - 22"/>
              </a:rPr>
              <a:t>4 triangle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4902120" y="2057400"/>
            <a:ext cx="744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- 22"/>
              </a:rPr>
              <a:t>area of extended frac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- 22"/>
              </a:rPr>
              <a:t>256+ 3x64 +9x16 +27x4 =700triangles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1866960"/>
            <a:ext cx="2573280" cy="1506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-38160" y="787320"/>
            <a:ext cx="6743880" cy="10033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2870280" y="1879560"/>
            <a:ext cx="2917800" cy="14670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4"/>
          <a:stretch/>
        </p:blipFill>
        <p:spPr>
          <a:xfrm>
            <a:off x="5931000" y="1866960"/>
            <a:ext cx="3287520" cy="147780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5"/>
          <a:stretch/>
        </p:blipFill>
        <p:spPr>
          <a:xfrm>
            <a:off x="431640" y="3263760"/>
            <a:ext cx="3373560" cy="1530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6"/>
          <a:stretch/>
        </p:blipFill>
        <p:spPr>
          <a:xfrm>
            <a:off x="4991040" y="3251160"/>
            <a:ext cx="4170600" cy="18907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4089240" y="279360"/>
            <a:ext cx="340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 - 16"/>
              </a:rPr>
              <a:t>The Koch Snowfl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27080" y="4724280"/>
            <a:ext cx="104900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 - 36"/>
              </a:rPr>
              <a:t>It is a field of mathematics that is still being researched. Iterative equations are set up on the computer and allowed to run. They produce different pattern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6320" y="343080"/>
            <a:ext cx="401292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 - 24"/>
              </a:rPr>
              <a:t>Demonstration of a fractal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191120" y="685800"/>
            <a:ext cx="29718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-12600" y="838080"/>
            <a:ext cx="6288120" cy="5827680"/>
            <a:chOff x="-12600" y="838080"/>
            <a:chExt cx="6288120" cy="5827680"/>
          </a:xfrm>
        </p:grpSpPr>
        <p:grpSp>
          <p:nvGrpSpPr>
            <p:cNvPr id="323" name=""/>
            <p:cNvGrpSpPr/>
            <p:nvPr/>
          </p:nvGrpSpPr>
          <p:grpSpPr>
            <a:xfrm>
              <a:off x="-12600" y="1168560"/>
              <a:ext cx="6288120" cy="5497200"/>
              <a:chOff x="-12600" y="1168560"/>
              <a:chExt cx="6288120" cy="5497200"/>
            </a:xfrm>
          </p:grpSpPr>
          <p:sp>
            <p:nvSpPr>
              <p:cNvPr id="324" name=""/>
              <p:cNvSpPr/>
              <p:nvPr/>
            </p:nvSpPr>
            <p:spPr>
              <a:xfrm>
                <a:off x="1866960" y="3048120"/>
                <a:ext cx="2630520" cy="2465280"/>
              </a:xfrm>
              <a:custGeom>
                <a:avLst/>
                <a:gdLst/>
                <a:ahLst/>
                <a:rect l="l" t="t" r="r" b="b"/>
                <a:pathLst>
                  <a:path w="1657" h="1553">
                    <a:moveTo>
                      <a:pt x="1656" y="1550"/>
                    </a:moveTo>
                    <a:lnTo>
                      <a:pt x="0" y="1552"/>
                    </a:lnTo>
                    <a:lnTo>
                      <a:pt x="829" y="0"/>
                    </a:lnTo>
                    <a:lnTo>
                      <a:pt x="1656" y="1550"/>
                    </a:lnTo>
                    <a:close/>
                  </a:path>
                </a:pathLst>
              </a:custGeom>
              <a:solidFill>
                <a:srgbClr val="ffff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2476440" y="1803240"/>
                <a:ext cx="1297080" cy="1258920"/>
              </a:xfrm>
              <a:custGeom>
                <a:avLst/>
                <a:gdLst/>
                <a:ahLst/>
                <a:rect l="l" t="t" r="r" b="b"/>
                <a:pathLst>
                  <a:path w="817" h="793">
                    <a:moveTo>
                      <a:pt x="816" y="791"/>
                    </a:moveTo>
                    <a:lnTo>
                      <a:pt x="0" y="792"/>
                    </a:lnTo>
                    <a:lnTo>
                      <a:pt x="408" y="0"/>
                    </a:lnTo>
                    <a:lnTo>
                      <a:pt x="816" y="791"/>
                    </a:lnTo>
                    <a:close/>
                  </a:path>
                </a:pathLst>
              </a:custGeom>
              <a:solidFill>
                <a:srgbClr val="00ff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 rot="14533200">
                <a:off x="651240" y="5136120"/>
                <a:ext cx="1324080" cy="1287360"/>
              </a:xfrm>
              <a:custGeom>
                <a:avLst/>
                <a:gdLst/>
                <a:ahLst/>
                <a:rect l="l" t="t" r="r" b="b"/>
                <a:pathLst>
                  <a:path w="834" h="811">
                    <a:moveTo>
                      <a:pt x="833" y="809"/>
                    </a:moveTo>
                    <a:lnTo>
                      <a:pt x="0" y="810"/>
                    </a:lnTo>
                    <a:lnTo>
                      <a:pt x="417" y="0"/>
                    </a:lnTo>
                    <a:lnTo>
                      <a:pt x="833" y="809"/>
                    </a:lnTo>
                    <a:close/>
                  </a:path>
                </a:pathLst>
              </a:custGeom>
              <a:solidFill>
                <a:srgbClr val="00ff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2768760" y="1168560"/>
                <a:ext cx="712800" cy="68724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 rot="21472800">
                <a:off x="1891800" y="2704680"/>
                <a:ext cx="712800" cy="68760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3645000" y="2654280"/>
                <a:ext cx="712800" cy="68724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 rot="21450600">
                <a:off x="240840" y="5727600"/>
                <a:ext cx="712800" cy="68760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463840" y="16765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3403440" y="16509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057400" y="23875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1663560" y="321300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2502000" y="318780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3809880" y="23367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4241880" y="313704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3403440" y="3124080"/>
                <a:ext cx="395280" cy="35748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393840" y="5410080"/>
                <a:ext cx="395280" cy="35748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-12600" y="62485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863640" y="61977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181160" y="4254480"/>
                <a:ext cx="712800" cy="68724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2006640" y="5740560"/>
                <a:ext cx="712800" cy="68724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2590920" y="6235560"/>
                <a:ext cx="395280" cy="35748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727280" y="62103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>
                <a:off x="2146320" y="55119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1333440" y="39369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>
                <a:off x="952560" y="474984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49" name=""/>
              <p:cNvSpPr/>
              <p:nvPr/>
            </p:nvSpPr>
            <p:spPr>
              <a:xfrm>
                <a:off x="1765440" y="468648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4191120" y="4813200"/>
                <a:ext cx="1296720" cy="1258920"/>
              </a:xfrm>
              <a:custGeom>
                <a:avLst/>
                <a:gdLst/>
                <a:ahLst/>
                <a:rect l="l" t="t" r="r" b="b"/>
                <a:pathLst>
                  <a:path w="817" h="793">
                    <a:moveTo>
                      <a:pt x="816" y="791"/>
                    </a:moveTo>
                    <a:lnTo>
                      <a:pt x="0" y="792"/>
                    </a:lnTo>
                    <a:lnTo>
                      <a:pt x="408" y="0"/>
                    </a:lnTo>
                    <a:lnTo>
                      <a:pt x="816" y="791"/>
                    </a:lnTo>
                    <a:close/>
                  </a:path>
                </a:pathLst>
              </a:custGeom>
              <a:solidFill>
                <a:srgbClr val="00ff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1" name=""/>
              <p:cNvSpPr/>
              <p:nvPr/>
            </p:nvSpPr>
            <p:spPr>
              <a:xfrm>
                <a:off x="4495680" y="4165560"/>
                <a:ext cx="712800" cy="68760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2" name=""/>
              <p:cNvSpPr/>
              <p:nvPr/>
            </p:nvSpPr>
            <p:spPr>
              <a:xfrm>
                <a:off x="5270400" y="5765760"/>
                <a:ext cx="712800" cy="68760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3683160" y="5778360"/>
                <a:ext cx="712800" cy="687600"/>
              </a:xfrm>
              <a:custGeom>
                <a:avLst/>
                <a:gdLst/>
                <a:ahLst/>
                <a:rect l="l" t="t" r="r" b="b"/>
                <a:pathLst>
                  <a:path w="449" h="433">
                    <a:moveTo>
                      <a:pt x="448" y="432"/>
                    </a:moveTo>
                    <a:lnTo>
                      <a:pt x="0" y="432"/>
                    </a:lnTo>
                    <a:lnTo>
                      <a:pt x="224" y="0"/>
                    </a:lnTo>
                    <a:lnTo>
                      <a:pt x="448" y="432"/>
                    </a:lnTo>
                    <a:close/>
                  </a:path>
                </a:pathLst>
              </a:custGeom>
              <a:solidFill>
                <a:srgbClr val="ff000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4622760" y="383544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5105520" y="46483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4203720" y="4635360"/>
                <a:ext cx="395280" cy="35748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3848040" y="55119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8" name=""/>
              <p:cNvSpPr/>
              <p:nvPr/>
            </p:nvSpPr>
            <p:spPr>
              <a:xfrm>
                <a:off x="3403440" y="628668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9" name=""/>
              <p:cNvSpPr/>
              <p:nvPr/>
            </p:nvSpPr>
            <p:spPr>
              <a:xfrm>
                <a:off x="4267080" y="62611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>
                <a:off x="5029200" y="626112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5397480" y="549900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5880240" y="6222960"/>
                <a:ext cx="395280" cy="357120"/>
              </a:xfrm>
              <a:custGeom>
                <a:avLst/>
                <a:gdLst/>
                <a:ahLst/>
                <a:rect l="l" t="t" r="r" b="b"/>
                <a:pathLst>
                  <a:path w="249" h="225">
                    <a:moveTo>
                      <a:pt x="248" y="224"/>
                    </a:moveTo>
                    <a:lnTo>
                      <a:pt x="0" y="224"/>
                    </a:lnTo>
                    <a:lnTo>
                      <a:pt x="124" y="0"/>
                    </a:lnTo>
                    <a:lnTo>
                      <a:pt x="248" y="224"/>
                    </a:lnTo>
                    <a:close/>
                  </a:path>
                </a:pathLst>
              </a:custGeom>
              <a:solidFill>
                <a:srgbClr val="40e0d0"/>
              </a:solidFill>
              <a:ln w="38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63" name=""/>
            <p:cNvSpPr/>
            <p:nvPr/>
          </p:nvSpPr>
          <p:spPr>
            <a:xfrm>
              <a:off x="2908440" y="838080"/>
              <a:ext cx="395280" cy="357480"/>
            </a:xfrm>
            <a:custGeom>
              <a:avLst/>
              <a:gdLst/>
              <a:ahLst/>
              <a:rect l="l" t="t" r="r" b="b"/>
              <a:pathLst>
                <a:path w="249" h="225">
                  <a:moveTo>
                    <a:pt x="248" y="224"/>
                  </a:moveTo>
                  <a:lnTo>
                    <a:pt x="0" y="224"/>
                  </a:lnTo>
                  <a:lnTo>
                    <a:pt x="124" y="0"/>
                  </a:lnTo>
                  <a:lnTo>
                    <a:pt x="248" y="224"/>
                  </a:lnTo>
                  <a:close/>
                </a:path>
              </a:pathLst>
            </a:custGeom>
            <a:solidFill>
              <a:srgbClr val="40e0d0"/>
            </a:solidFill>
            <a:ln w="38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4" name=""/>
          <p:cNvSpPr/>
          <p:nvPr/>
        </p:nvSpPr>
        <p:spPr>
          <a:xfrm>
            <a:off x="4800600" y="152280"/>
            <a:ext cx="4819680" cy="3554640"/>
          </a:xfrm>
          <a:custGeom>
            <a:avLst/>
            <a:gdLst/>
            <a:ahLst/>
            <a:rect l="l" t="t" r="r" b="b"/>
            <a:pathLst>
              <a:path w="3036" h="2239">
                <a:moveTo>
                  <a:pt x="0" y="0"/>
                </a:moveTo>
                <a:lnTo>
                  <a:pt x="3035" y="0"/>
                </a:lnTo>
                <a:lnTo>
                  <a:pt x="3035" y="2238"/>
                </a:lnTo>
                <a:lnTo>
                  <a:pt x="0" y="2238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851360" y="1028880"/>
            <a:ext cx="1778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 - 28"/>
              </a:rPr>
              <a:t>The lim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4876920" y="1549440"/>
            <a:ext cx="441936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500" spc="-1" strike="noStrike">
                <a:solidFill>
                  <a:srgbClr val="000000"/>
                </a:solidFill>
                <a:latin typeface="Arial - 28"/>
              </a:rPr>
              <a:t>shape</a:t>
            </a:r>
            <a:r>
              <a:rPr b="0" lang="en-GB" sz="2500" spc="-1" strike="noStrike">
                <a:solidFill>
                  <a:srgbClr val="000000"/>
                </a:solidFill>
                <a:latin typeface="Comic Sans MS - 28"/>
              </a:rPr>
              <a:t> </a:t>
            </a:r>
            <a:r>
              <a:rPr b="0" lang="en-GB" sz="2500" spc="-1" strike="noStrike">
                <a:solidFill>
                  <a:srgbClr val="000000"/>
                </a:solidFill>
                <a:latin typeface="Lucida Sans Unicode - 28"/>
              </a:rPr>
              <a:t>⇒</a:t>
            </a:r>
            <a:r>
              <a:rPr b="0" lang="en-GB" sz="2500" spc="-1" strike="noStrike">
                <a:solidFill>
                  <a:srgbClr val="000000"/>
                </a:solidFill>
                <a:latin typeface="Arial - 28"/>
              </a:rPr>
              <a:t>Equilateral triangle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851360" y="2120760"/>
            <a:ext cx="35305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 - 28"/>
              </a:rPr>
              <a:t>perimeter</a:t>
            </a:r>
            <a:r>
              <a:rPr b="0" lang="en-GB" sz="2700" spc="-1" strike="noStrike">
                <a:solidFill>
                  <a:srgbClr val="000000"/>
                </a:solidFill>
                <a:latin typeface="Comic Sans MS - 28"/>
              </a:rPr>
              <a:t> 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 - 28"/>
              </a:rPr>
              <a:t>⇒ </a:t>
            </a:r>
            <a:r>
              <a:rPr b="0" lang="en-GB" sz="2700" spc="-1" strike="noStrike">
                <a:solidFill>
                  <a:srgbClr val="000000"/>
                </a:solidFill>
                <a:latin typeface="Arial - 28"/>
              </a:rPr>
              <a:t>192cm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876920" y="2717640"/>
            <a:ext cx="43434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700" spc="-1" strike="noStrike">
                <a:solidFill>
                  <a:srgbClr val="000000"/>
                </a:solidFill>
                <a:latin typeface="Arial - 28"/>
              </a:rPr>
              <a:t>area</a:t>
            </a:r>
            <a:r>
              <a:rPr b="0" lang="en-GB" sz="2700" spc="-1" strike="noStrike">
                <a:solidFill>
                  <a:srgbClr val="000000"/>
                </a:solidFill>
                <a:latin typeface="Lucida Sans Unicode - 28"/>
              </a:rPr>
              <a:t>⇒</a:t>
            </a:r>
            <a:r>
              <a:rPr b="0" lang="en-GB" sz="2700" spc="-1" strike="noStrike">
                <a:solidFill>
                  <a:srgbClr val="000000"/>
                </a:solidFill>
                <a:latin typeface="Arial - 28"/>
              </a:rPr>
              <a:t>1024 unit triangle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59520" y="4114800"/>
            <a:ext cx="2833920" cy="2135160"/>
          </a:xfrm>
          <a:custGeom>
            <a:avLst/>
            <a:gdLst/>
            <a:ahLst/>
            <a:rect l="l" t="t" r="r" b="b"/>
            <a:pathLst>
              <a:path w="1785" h="1345">
                <a:moveTo>
                  <a:pt x="0" y="0"/>
                </a:moveTo>
                <a:lnTo>
                  <a:pt x="1784" y="0"/>
                </a:lnTo>
                <a:lnTo>
                  <a:pt x="1784" y="1344"/>
                </a:lnTo>
                <a:lnTo>
                  <a:pt x="0" y="1344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010280" y="4178160"/>
            <a:ext cx="2793960" cy="21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 - 24"/>
              </a:rPr>
              <a:t>How can we show that as you add more shapes both the area and the perimeter tend to a limit value?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4889520" y="241200"/>
            <a:ext cx="1803240" cy="44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000000"/>
                </a:solidFill>
                <a:latin typeface="Arial - 24"/>
              </a:rPr>
              <a:t>Challen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2" name="" descr=""/>
          <p:cNvPicPr/>
          <p:nvPr/>
        </p:nvPicPr>
        <p:blipFill>
          <a:blip r:embed="rId1"/>
          <a:stretch/>
        </p:blipFill>
        <p:spPr>
          <a:xfrm>
            <a:off x="6566040" y="4622760"/>
            <a:ext cx="3595680" cy="2630520"/>
          </a:xfrm>
          <a:prstGeom prst="rect">
            <a:avLst/>
          </a:prstGeom>
          <a:ln w="0">
            <a:noFill/>
          </a:ln>
        </p:spPr>
      </p:pic>
      <p:pic>
        <p:nvPicPr>
          <p:cNvPr id="373" name="" descr=""/>
          <p:cNvPicPr/>
          <p:nvPr/>
        </p:nvPicPr>
        <p:blipFill>
          <a:blip r:embed="rId2"/>
          <a:stretch/>
        </p:blipFill>
        <p:spPr>
          <a:xfrm>
            <a:off x="-165240" y="-216000"/>
            <a:ext cx="3595680" cy="2630520"/>
          </a:xfrm>
          <a:prstGeom prst="rect">
            <a:avLst/>
          </a:prstGeom>
          <a:ln w="0">
            <a:noFill/>
          </a:ln>
        </p:spPr>
      </p:pic>
      <p:pic>
        <p:nvPicPr>
          <p:cNvPr id="374" name="" descr=""/>
          <p:cNvPicPr/>
          <p:nvPr/>
        </p:nvPicPr>
        <p:blipFill>
          <a:blip r:embed="rId3"/>
          <a:stretch/>
        </p:blipFill>
        <p:spPr>
          <a:xfrm>
            <a:off x="-419040" y="4673520"/>
            <a:ext cx="3595680" cy="2630520"/>
          </a:xfrm>
          <a:prstGeom prst="rect">
            <a:avLst/>
          </a:prstGeom>
          <a:ln w="0">
            <a:noFill/>
          </a:ln>
        </p:spPr>
      </p:pic>
      <p:pic>
        <p:nvPicPr>
          <p:cNvPr id="375" name="" descr=""/>
          <p:cNvPicPr/>
          <p:nvPr/>
        </p:nvPicPr>
        <p:blipFill>
          <a:blip r:embed="rId4"/>
          <a:stretch/>
        </p:blipFill>
        <p:spPr>
          <a:xfrm>
            <a:off x="6730920" y="-317520"/>
            <a:ext cx="3595680" cy="263052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1663560" y="444600"/>
            <a:ext cx="703584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e0"/>
                </a:solidFill>
                <a:latin typeface="Arial - 36"/>
              </a:rPr>
              <a:t>You will be given some rules and you need to use coloured paper to make your fract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e0"/>
                </a:solidFill>
                <a:latin typeface="Arial - 36"/>
              </a:rPr>
              <a:t>1. Investigate the relationship between each size of shape. How many shape 1 fit into 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e0"/>
                </a:solidFill>
                <a:latin typeface="Arial - 36"/>
              </a:rPr>
              <a:t>2. Find the area of each sha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e0"/>
                </a:solidFill>
                <a:latin typeface="Arial - 36"/>
              </a:rPr>
              <a:t>3. Find the perimeter of each shap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e0"/>
                </a:solidFill>
                <a:latin typeface="Arial - 36"/>
              </a:rPr>
              <a:t>4. What happens as each layer gets added.  What happens at the lim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015920" y="203040"/>
            <a:ext cx="8312400" cy="654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155600" y="482760"/>
            <a:ext cx="7572600" cy="605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320840" y="393840"/>
            <a:ext cx="8047080" cy="626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927000" y="469800"/>
            <a:ext cx="8105760" cy="63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1244520" y="431640"/>
            <a:ext cx="7864560" cy="605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22440" y="304920"/>
            <a:ext cx="8967600" cy="680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0:24:13Z</dcterms:created>
  <dc:creator>image</dc:creator>
  <dc:description/>
  <dc:language>en-US</dc:language>
  <cp:lastModifiedBy>image</cp:lastModifiedBy>
  <dcterms:modified xsi:type="dcterms:W3CDTF">2011-04-19T10:26:07Z</dcterms:modified>
  <cp:revision>2</cp:revision>
  <dc:subject/>
  <dc:title>Slide 1</dc:title>
</cp:coreProperties>
</file>